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ED7-6D57-4000-BC61-1457BD03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E0B-FD52-4ADF-A91E-2757F333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5B1-D50B-4147-B280-4B87F702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172-EED8-4E3B-997B-E1EB8E0E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F700-2144-4A65-9EAA-962C0E47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4526-0089-411C-83DC-7B4D70C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A63C-EB3A-47B3-A521-E8A2AD5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2DD-D9CD-482C-AC92-2062940E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8C9-075B-4E4B-91CA-95F606B0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6BAD-2879-4B06-92C8-10F20069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9D25-7B4F-4B21-8895-33AA232A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8F7-A81B-4E17-80B1-7DF5FCE7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A8B7-52F7-4E01-BB35-D451752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5086-4A49-4A75-BD23-1FDB2DA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5414-6FC5-4742-A4C3-09E640B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A9B6-FCC7-46A9-BD9B-7C5D2727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D3F-EF28-4EF5-B5E3-4B393F20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E24-5427-4B4D-887F-AD191477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589-D798-4830-997E-333499D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3BA-D3A0-47E1-9421-AF2DA12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117-14B2-427A-8072-DE14C181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9C0-655F-4012-94FC-BF6730D8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ED6-33B3-47C7-8675-90D336C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FF8-6271-484C-B491-AE93E24D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DAA4-0351-4425-B9DD-1CE0A69742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60D2-75D6-41DF-A03F-E1A7A4E1790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kwasniewski@windstream.ne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roblematic Legislation on the Horizon for HR Professional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aig Kwasniewsk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hio SHRM – Director, Governmental Aff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ycheck Fairness Ac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expand damages under the EPA to include potentially unlimited compensatory and punitive awa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vent employers from relying on the “factors other than sex” affirmative defense in wage discrimination c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orporate anti-retaliation provisions into the FLSA that would protect complaina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ycheck Fairness Ac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inate the requirement that employees work in the same establishment for wage comparison purpo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instate the Equal Opportunity Surve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RM plans to op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al Employment for All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.R.314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37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amend the Fair Credit Reporting Act (FCRA) to prohibit the use of credit checks in the employment process in most insta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37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e a credit report or consumer report as any information that reflects an individual’s credit worthiness, credit standing or credit capacity for employment purpo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qual Employment for All Ac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rtain credit checks permit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ployers would still be required by the FCRA to obtain the permission of the employee to conduct a credit report for the permitted excep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B 523 Employee Misclassif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B 291 Background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B 571 Conceal/Car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B 52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ployee Misclassif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nges definition of employ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ependent Contractor statu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Chamber of Commerce oppo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B 523 Continue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 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e. The individual has been and continues to be free from control and direction for performance of their serv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e. The work performed by the individual is outside of the usual course of business of the employ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B 29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ople with arrest records having trouble with job search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dates when an employer can use a background che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ers offenders the opportunity to have their records sea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Chamber oppo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B 57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ld HB 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ification to conceal/car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allow employees to be able to keep a firearm in their locked car on company premi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ll would mandate that it’s allowed and override company polic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RM Government Relations – SHRM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RM Advocacy Team – SHRM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Chamber of Commerce – OhioChamber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ttler Governmental Affairs Te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SHRM – OhioSHRM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aig Kwasniewsk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40/329-7223 (offic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ckwasniewski@windstream.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deral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lth Care Re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99 Reporting Requir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check Fairness A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 Employment for All A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lth Care Refor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ient Protection and Affordable Care Act (PPACA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ile PPACA is now law, many implementation details remain unanswer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ective dates of many provisions are several years down the road, but it is not too early to start prepar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lth Care Reform Continu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orts to “repeal” are unlikely – technical corrections legislation is more like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99 Reporting Requir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quire an employer to file a 1099 tax form reporting any purchase it makes of  any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goods or services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ove $600 from any individual or busines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ly, employers must only file a 1099 on the purchase of services and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only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 entity is an unincorporated busi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099 Reporting Requiremen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ndments are pending in the Senate to either repeal the provision or exempt businesses with less than 25 people and apply the reporting requirement only to purchases above $5,00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99 requirement is projected to raise $17.1 billion dollars over ten years and was included in the health care bill to offset its cos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099 Reporting Requiremen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orts to repeal this provision, which becomes effective in 2012, failed in the Senate on September 16, 201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ycheck Fairness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introduced in the Senate on September 13, 201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amend the Fair Labor Standards Act (FLSA) to increase remedies for violations of the Equal Pay Act (EPA) and make it more difficult to defend against such claim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2:38:51Z</dcterms:created>
  <dc:creator>craigk</dc:creator>
  <dc:description/>
  <dc:language>en-US</dc:language>
  <cp:lastModifiedBy>craigk</cp:lastModifiedBy>
  <dcterms:modified xsi:type="dcterms:W3CDTF">2010-09-21T13:30:14Z</dcterms:modified>
  <cp:revision>10</cp:revision>
  <dc:subject/>
  <dc:title>Problematic Legislation on the Horizon for HR Professionals</dc:title>
</cp:coreProperties>
</file>