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AC8-5B75-4F7C-8422-B73F8DF4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9B9-1CD6-4DE6-AC4C-3478603D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5EB-AC5A-4709-AE1C-14A8E2CD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7F3-801E-4CA6-905E-725131E2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2FCC-614E-4492-AA04-139C64F3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C65-932B-4590-90F1-3173E247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2F8F-F75C-4BAF-BD91-C656A55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070-40A4-4DED-92CC-7130AA0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D7E0-1B8E-4AA7-B624-A7FC44AE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8321-8F75-4BA9-8FFD-38FD74B1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4E00-1BEC-49D0-893F-98F4651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43D-2A15-4BB8-AC2C-432E0BA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D94-B9E8-4F62-886F-20B8F055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D048-D29A-430A-9698-E60438B4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E477-9C5B-4118-985E-82CB6BDC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CA6F-0EA4-42D4-ABEE-37B62012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1159-1FCA-4493-B407-717DF4DB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F37-5E27-4755-AA8C-20FF44D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143-19A2-4015-8AB2-5DEC4D4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4DD-E55A-46CE-89B3-605A91F2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E62-970E-4F65-932A-9DB4D5D0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D3D-1031-403E-9F31-5F91663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14E-3E67-4783-B9E0-7C2ED89A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E0A-1E10-497A-B00B-E466438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E06-7B63-4B25-8901-6620B3DFB9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4BB6-B73B-4A61-A8FB-9A4DD1A0EC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kwasniewski@windstream.ne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roblematic Legislation on the Horizon for HR Professional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ed By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aig Kwasniewsk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hio SHRM – Director, Governmental Aff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ycheck Fairness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expand damages under the EPA to include potentially unlimited compensatory and punitive awar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vent employers from relying on the “factors other than sex” affirmative defense in wage discrimination c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orporate anti-retaliation provisions into the FLSA that would protect complaina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ycheck Fairness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liminate the requirement that employees work in the same establishment for wage comparison purpo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instate the Equal Opportunity Surve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plans to op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qual Employment for All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.R.314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37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mend the Fair Credit Reporting Act (FCRA) to prohibit the use of credit checks in the employment process in most insta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37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ine a credit report or consumer report as any information that reflects an individual’s credit worthiness, credit standing or credit capacity for employment purpo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qual Employment for All Ac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rtain credit checks permit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ployers would still be required by the FCRA to obtain the permission of the employee to conduct a credit report for the permitted excep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 523 Employee Misclass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B 291 Background Check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B 571 Conceal/Car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2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ployee Misclassif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nges definition of employ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dependent Contractor statu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f Commerce op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23 Continue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 exem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e. The individual has been and continues to be free from control and direction for performance of their servi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.e. The work performed by the individual is outside of the usual course of business of the employ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B 29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ople with arrest records having trouble with job sear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dates when an employer can use a background chec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ers offenders the opportunity to have their records seal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ppo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B 57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ld HB 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ification to conceal/car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llow employees to be able to keep a firearm in their locked car on company premi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ll would mandate that it’s allowed and override company polic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Government Relations – 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RM Advocacy Team – 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Chamber of Commerce – OhioChamber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ttler Governmental Affairs Te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hio SHRM – OhioSHRM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deral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e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aig Kwasniewsk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440/329-7223 (offic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ckwasniewski@windstream.ne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ederal Issu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alth Care Refor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99 Reporting Requir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ycheck Fairness 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qual Employment for All A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lth Care Refor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tient Protection and Affordable Care Act (PPACA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ile PPACA is now law, many implementation details remain unanswer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ective dates of many provisions are several years down the road, but it is not too early to start preparin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lth Care Reform Continue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orts to “repeal” are unlikely – technical corrections legislation is more like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099 Reporting Requir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quire an employer to file a 1099 tax form reporting any purchase it makes of  any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goods or service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bove $600 from any individual or busines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, employers must only file a 1099 on the purchase of services and </a:t>
            </a: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only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 entity is an unincorporated busi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099 Reporting Requiremen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ndments are pending in the Senate to either repeal the provision or exempt businesses with less than 25 people and apply the reporting requirement only to purchases above $5,00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99 requirement is projected to raise $17.1 billion dollars over ten years and was included in the health care bill to offset its cos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099 Reporting Requirement Continue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fforts to repeal this provision, which becomes effective in 2012, failed in the Senate on September 16,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ycheck Fairness Ac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introduced in the Senate on September 13, 2010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uld amend the Fair Labor Standards Act (FLSA) to increase remedies for violations of the Equal Pay Act (EPA) and make it more difficult to defend against such claim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2:38:51Z</dcterms:created>
  <dc:creator>craigk</dc:creator>
  <dc:description/>
  <dc:language>en-US</dc:language>
  <cp:lastModifiedBy>craigk</cp:lastModifiedBy>
  <dcterms:modified xsi:type="dcterms:W3CDTF">2010-09-21T13:30:14Z</dcterms:modified>
  <cp:revision>10</cp:revision>
  <dc:subject/>
  <dc:title>Problematic Legislation on the Horizon for HR Professionals</dc:title>
</cp:coreProperties>
</file>