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33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2.png" ContentType="image/png"/>
  <Override PartName="/ppt/media/image31.jpeg" ContentType="image/jpeg"/>
  <Override PartName="/ppt/media/image10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3.jpeg" ContentType="image/jpeg"/>
  <Override PartName="/ppt/media/image26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0063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08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2960" y="-360"/>
            <a:ext cx="2968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200" y="669960"/>
            <a:ext cx="4462200" cy="334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2600" y="4238280"/>
            <a:ext cx="502596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478360"/>
            <a:ext cx="2968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2960" y="8478360"/>
            <a:ext cx="2968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B60D70A-93DA-44F9-94CC-5225251F7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454040" y="528480"/>
            <a:ext cx="3865680" cy="2899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2600" y="3631680"/>
            <a:ext cx="5025960" cy="4681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respondents varied for each question, ranging from 401 to 423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.A. selected when company does not hire in selected category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ages may not add to 100% due to rou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454040" y="528480"/>
            <a:ext cx="3865680" cy="2899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2600" y="3631680"/>
            <a:ext cx="5025960" cy="4681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 on “majority list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81%, Creativity/Innovation 81% Lifelong learning/self direction 78.3%, Diversity 71.8%, Mathematics 64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C92-9F89-480A-AFBA-83301F38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F2B-093D-4A6A-B4C4-E0BD8C9E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68D-5617-4B2C-B60E-E9991659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D61B-9BF4-473A-BFF3-9403EB1B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06A9-C780-45BF-B21A-4943658E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721-98F9-4B14-A183-1BB018D1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B7E0-410C-4881-B5E0-ABC42822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232B-1F51-43E0-A75B-5871C778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13CC-89D1-4D73-BA62-35573126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1B52-8683-4C02-8E13-27016678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9542-4B49-4489-B5BB-F27A828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F5F-4E1A-451E-BB84-15AAFC6A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1CF0-E7DB-42C1-B28A-E5B19A06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255D-64F7-4C19-962F-18313DD3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C37B-D542-4C53-B6E0-AA93C5EA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6268-3ACE-4AFD-8934-F1C4A1FD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8C27-EA82-4562-96C5-76B09004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FA7-A038-4676-9C0A-F2B8F307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E5C-464C-4821-B9BF-E97C8977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E0D-8584-4056-AE9D-5298DFA4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6EF-1E14-447E-98B2-73AAD1B8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6A3-C84E-429F-90E2-1DC08DB6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84D-981F-4439-A835-E0AFE58E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E48-AA97-4C43-A633-6091D20B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87A3-2F92-4DDE-A755-A242A6436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72EA-D125-4869-979E-ED72605B0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ghrconsulting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hrm.org/hrtools/spreadsheets_published/HR%20Metrics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hrm.org/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pghrconsulting.com/" TargetMode="External"/><Relationship Id="rId2" Type="http://schemas.openxmlformats.org/officeDocument/2006/relationships/hyperlink" Target="mailto:pghr@pghrconsulting.com" TargetMode="External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2362320"/>
            <a:ext cx="75438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 Black"/>
              </a:rPr>
              <a:t>Where Will They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04c"/>
                </a:solidFill>
                <a:latin typeface="Arial Narrow"/>
              </a:rPr>
              <a:t>Creating a Business Case for WR Invol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04c"/>
                </a:solidFill>
                <a:latin typeface="Arial Narrow"/>
              </a:rPr>
              <a:t>in Your Organization</a:t>
            </a:r>
            <a:r>
              <a:rPr b="0" lang="en-US" sz="3200" spc="-1" strike="noStrike">
                <a:solidFill>
                  <a:srgbClr val="0d004c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800600"/>
            <a:ext cx="54104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4c"/>
                </a:solidFill>
                <a:latin typeface="Arial Narrow"/>
              </a:rPr>
              <a:t>Phyllis G. Hartman, SP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4c"/>
                </a:solidFill>
                <a:latin typeface="Arial Narrow"/>
              </a:rPr>
              <a:t>PGHR Consulting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04c"/>
                </a:solidFill>
                <a:latin typeface="Arial Narrow"/>
              </a:rPr>
              <a:t>Pittsburgh,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www.pghrconsulti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ilent Epidem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one third of all public high school students – and nearly one half of all blacks, Hispanics and Native Americans – fail to graduate from public high school with thei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lent Epid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spectives of High School Drop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port by Civic Enterprises in association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D. Hart Research Assoc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Bill &amp; Melinda Gates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Demograph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 million Baby Boomers will ret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 million Gen Xers are available to replac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International Workers are avail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a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for workers in ho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Quick Changing Skil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new skills will be dr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Speed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is unlikely to decrea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62040" y="2666880"/>
            <a:ext cx="2476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Adop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600200"/>
          <a:ext cx="8024760" cy="50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8024760" cy="5019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3111480" y="1219320"/>
            <a:ext cx="431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cc00"/>
                </a:solidFill>
                <a:latin typeface="Arial"/>
              </a:rPr>
              <a:t>Yrs to Attain 25% Market Sh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8360" y="5981760"/>
            <a:ext cx="23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lene Ellis, Intel, NAWB, 3/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se Responsibi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ith your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ith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9080" y="2556000"/>
            <a:ext cx="257472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se Responsibi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y Really Ready to Work 2005 Surv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institutions and entrants themselves are considered to have primary responsibility for Workforce Readines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ference Board, Partnership for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Skills,                  Corp Voices for Working Families &amp; SH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 is Everyone’s Issu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s simple as realizing the value of a prepared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others, students, parents, teachers, the community to understand the needs of the future workplace is the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876920"/>
            <a:ext cx="716292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But How Can HR Professionals Convince Their Organizations to Get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Understand the    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 yourself about the challenges you will 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 workforce aud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 you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ir ski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will you have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otent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otivates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e yourself about the challenges you will fac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your busin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your organization’s real busines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people hap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ission/vision/val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“market/business strategy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the Strategic Plan say about where you are g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competi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66720" y="2209680"/>
            <a:ext cx="26244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e yourself about the challenges you will fac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the now and the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(what talents) will you need going into the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ill you need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you train/develop them from the ins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68520" y="2482920"/>
            <a:ext cx="3003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The Facts/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’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Steps in Making a Business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/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e yourself about the challenges you will fac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an external environmental scan for t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Censu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educational programs in your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what other employers are 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Develop Internal 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red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 understanding of the perspective of Management by educating yourself about their areas of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bout their functions, Marketing/Sales, Produc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bout thei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with them to ask about what they think they will need in the future work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o speak their language: “Investing” and R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Gill Sans Ultra Bold"/>
              </a:rPr>
              <a:t>Step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Prove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1600200"/>
          <a:ext cx="35049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3504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formation gathered in Step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everything is expressed in business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HR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er 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r Cost as % of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Offer Yield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over of Key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Cost per H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5334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hrm.org/hrtools/spreadsheets_published/HR%20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248520" y="2895480"/>
            <a:ext cx="1838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Identify the Benefits to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alented/skilled                  employees recru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prepared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 for future learning/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ors more in tune with employer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training $’s -- 25% to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iti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turnover &amp; re-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2662200" cy="21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utting the right people with the right skills in the right jobs pays off in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 returns to shareholders, 2002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that fill positions within 2 weeks: 59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that fill positions in 7+weeks: 1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5715000"/>
            <a:ext cx="51814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urce: Watson Wyatt 2005 Human Capital 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248520" y="3962520"/>
            <a:ext cx="1952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Engage Others in finding Solutions/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 it might seem easier to provide the answer, getting them to own the problem too has a major imp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powerful ally goes a long way to being successful – find a management advocate when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2449440"/>
            <a:ext cx="281952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Be prepared with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programs that are already in place, i.e.., JA, Ground Hog Job Shadow, SHRM –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hrm.or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Volunteer Leaders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measures and numbers to prove success good ROI from thes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to others HR/WIBs/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mall, pilo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s that directly relate to your busines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willing to be the g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638680" y="4724280"/>
            <a:ext cx="2857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Small Companies CAN take a role in Workforce Read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s or ex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 in local high/middle school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companies/organizations initiatives: Junior Achievement; America’s Promise; Chamber of Commerce; Business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coalitions – large &amp; small co. prepare/recruit entry candidates                    for small; later good candidates               for larger 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rs of facility - classes/scout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Gill Sans Ultra Bold"/>
              </a:rPr>
              <a:t>Step 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Set/Use goals/objectives/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769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objectives allow you to determine measures of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goals relate to business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and communic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57960" y="2315160"/>
            <a:ext cx="3913920" cy="3390480"/>
            <a:chOff x="957960" y="2315160"/>
            <a:chExt cx="3913920" cy="3390480"/>
          </a:xfrm>
        </p:grpSpPr>
        <p:sp>
          <p:nvSpPr>
            <p:cNvPr id="185" name="_s30729"/>
            <p:cNvSpPr/>
            <p:nvPr/>
          </p:nvSpPr>
          <p:spPr>
            <a:xfrm>
              <a:off x="1720080" y="2315160"/>
              <a:ext cx="2388240" cy="2388600"/>
            </a:xfrm>
            <a:custGeom>
              <a:avLst/>
              <a:gdLst>
                <a:gd name="textAreaLeft" fmla="*/ 0 w 2388240"/>
                <a:gd name="textAreaRight" fmla="*/ 2388600 w 2388240"/>
                <a:gd name="textAreaTop" fmla="*/ 0 h 2388600"/>
                <a:gd name="textAreaBottom" fmla="*/ 2388960 h 23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30"/>
            <p:cNvSpPr/>
            <p:nvPr/>
          </p:nvSpPr>
          <p:spPr>
            <a:xfrm rot="7200000">
              <a:off x="2046240" y="2878920"/>
              <a:ext cx="2388600" cy="2387880"/>
            </a:xfrm>
            <a:custGeom>
              <a:avLst/>
              <a:gdLst>
                <a:gd name="textAreaLeft" fmla="*/ 0 w 2388600"/>
                <a:gd name="textAreaRight" fmla="*/ 2388960 w 2388600"/>
                <a:gd name="textAreaTop" fmla="*/ 0 h 2387880"/>
                <a:gd name="textAreaBottom" fmla="*/ 23882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32"/>
            <p:cNvSpPr/>
            <p:nvPr/>
          </p:nvSpPr>
          <p:spPr>
            <a:xfrm rot="14400000">
              <a:off x="1394280" y="2880360"/>
              <a:ext cx="2388600" cy="2387880"/>
            </a:xfrm>
            <a:custGeom>
              <a:avLst/>
              <a:gdLst>
                <a:gd name="textAreaLeft" fmla="*/ 0 w 2388600"/>
                <a:gd name="textAreaRight" fmla="*/ 2388960 w 2388600"/>
                <a:gd name="textAreaTop" fmla="*/ 0 h 2387880"/>
                <a:gd name="textAreaBottom" fmla="*/ 23882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30727"/>
            <p:cNvSpPr/>
            <p:nvPr/>
          </p:nvSpPr>
          <p:spPr>
            <a:xfrm>
              <a:off x="3569760" y="2752560"/>
              <a:ext cx="957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 Goa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0728"/>
            <p:cNvSpPr/>
            <p:nvPr/>
          </p:nvSpPr>
          <p:spPr>
            <a:xfrm>
              <a:off x="2436480" y="4715640"/>
              <a:ext cx="957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easure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30731"/>
            <p:cNvSpPr/>
            <p:nvPr/>
          </p:nvSpPr>
          <p:spPr>
            <a:xfrm>
              <a:off x="1303200" y="2754360"/>
              <a:ext cx="95724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vise Program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76440" y="896760"/>
            <a:ext cx="775944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30520" y="5194440"/>
            <a:ext cx="6492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n Greenspan, Chai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Federal Reserve Board, July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ok at the Futu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ers must be equipped…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echnical know-how… the abilit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create, analyze and transform information and to interact effectively with others… learning will increasingly be a lifelong activity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Gill Sans Ultra Bold"/>
              </a:rPr>
              <a:t>Step 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Keep Ev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hange is eminent – keep changing the program as need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lexible alternatives to meet needs of all employees so everyone can stay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accountable – programs that are neglected and allowed to “die” are bad pub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UPM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MC – 15 hospitals &amp; research facilities, 40,000 employees - HQ Pittsburgh,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need for a Strategic Diversity Plan – targets: nursing-males; allied healthcare-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/student/parent involvement a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 recruit-retain; develop current employees; get community involvement/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shadows; school partnerships w/local hosp; internships; loans; tui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ing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629400" y="5105520"/>
            <a:ext cx="205740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- Penn United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&amp; Die Co.-750 employees – founder Carl Jones 35 yrs ago believed community involvement = futur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vision, values, mission include focus on th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employees to do outreach, join school board, support local vo-tech, visit the local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works with a collaborative of other manufacturers – new focus is outreach to “misplace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Dir. Is tasked with being the “drum beater” to keep everyone engaged, measure successes, look to the futu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269120" y="4343400"/>
            <a:ext cx="1398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– Hamill Manufactu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ion machining company – 112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 manager joined the company because they were involved with workforce read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does career day programs, job fairs, apprenticeship programs, work w/tech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 manager started a county wide school competition “Bots IQ”  (robotics) leads a committee – is the glue – that pairs schools-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positive image for “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ury”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635880" y="4876920"/>
            <a:ext cx="1738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- Man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wide recruiting/staffing/career management company with 4,400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involved with organizations/programs like “RealSkills” in CA for public assistance recipients teaching I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rheads efforts like TechReach entry-level IT training, w/partnerships of local employers; business associations; community-based organizations; educational institutions; government agencies at the local, state and federal levels; training organizations; publicly funded workforce organiz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back is a better prepared workers for them to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– Little Earth Prod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hion products company (license plate purses) – 45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O got involved because the Mon Valley Ed Consortium asked them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tours of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ternships to HS students – “City Hig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ee mora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tion for th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95880" y="4694400"/>
            <a:ext cx="18273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ther Education/Business Partnership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or exter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Days or Career 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Shad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-based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culu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/business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73200" y="178596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577880" y="41148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vernment/Service Agency Progra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bbying for funding/programs/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 Groundhog Job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in Workforce Investment 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at State One-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programs like: Homeless Children’s Education Fund; YouthWorks; YM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10280" y="16002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ee Support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employees volunteer time – tutoring/men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/educate employee involvement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parent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businesses of                         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ing contributions for educational programs/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943600" y="3124080"/>
            <a:ext cx="28954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 the 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-Sui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nderstan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6248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, education, WD professionals must work together to share information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focus must be on ensuring we are preparing students/employees with skills they can adapt for the future – life-lo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make our voices heard in the community and in legislative circles to help everyone understand the critical importance of investing in our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686640" y="2438280"/>
            <a:ext cx="22860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The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out of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R professionals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employees have the competencies they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4 per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workers have the competencies they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per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most n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ir workers have the right competenc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urce: SHRM 2005 Future of the Labor Force stu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Information from this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about current education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 information vs. your dem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4114800"/>
            <a:ext cx="32385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diction of the 2004 Task Force on Workforce  Development doesn’t have to come true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ack of basic skills… and shortages of workers… create a danger that the American economy will drift into what economists call a' low skills equilibrium’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8620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/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919240" y="1523880"/>
            <a:ext cx="3926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llis G. Hartman, SP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H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 Box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omar, PA 15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12-367-75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ghrconsult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ghr@pghrconsulti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095480" y="2035080"/>
            <a:ext cx="3159000" cy="37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51055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 5 missing compet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rofess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communication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communication ski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ource: SHRM 2005 Future of the Labor Force stud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94400" y="2133720"/>
            <a:ext cx="2940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99520"/>
            <a:ext cx="8534160" cy="9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Workforce Entrants w/HS Diploma -- Defic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600200"/>
          <a:ext cx="91440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266920" y="5448240"/>
            <a:ext cx="518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9760" y="1219320"/>
            <a:ext cx="50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ing o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verall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019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nference Board; Partnership fo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entury Workforce; Corporate Voices for Working Families; &amp; SHRM;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re They Really Ready to Work?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919160" y="1600200"/>
          <a:ext cx="109872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9160" y="1600200"/>
                    <a:ext cx="10987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ext 5 yrs skills importance Increa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87000" y="6181560"/>
            <a:ext cx="98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Sk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-762120" y="152280"/>
          <a:ext cx="10972800" cy="640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2120" y="152280"/>
                    <a:ext cx="10972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219320" y="6095880"/>
            <a:ext cx="7315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nference Board; Partnership for 21st Century Workforce; Corporate Voices for Working Families; &amp; SHRM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e They Really Ready to Work?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166320"/>
            <a:ext cx="8705880" cy="87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usiness sees Education &amp; Entrant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5335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990720" y="6248520"/>
            <a:ext cx="7848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nference Board; Partnership for 21st Century Workforce; Corporate Voices for Working Families; &amp; SHRM;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e They Really Ready to Work?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Education Issu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out of 3 adults in their mid-20’s started college, but didn’t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26 percent of U.S. adults have a college degree; all but 2 of 50 highest paying occupations require 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7% of US grads are in science &amp;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stest growing demographic groups have the worst history of HS and post-secondary educ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gital divide is more extreme – est. 40% of jobs today require technical/computer lit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697200" y="4952880"/>
            <a:ext cx="1747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yllis Hartman</cp:lastModifiedBy>
  <dcterms:modified xsi:type="dcterms:W3CDTF">2007-11-01T14:35:40Z</dcterms:modified>
  <cp:revision>152</cp:revision>
  <dc:subject/>
  <dc:title>PowerPoint Presentation</dc:title>
</cp:coreProperties>
</file>