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2EF5-8939-43A2-8748-281D1B162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6C4B-9824-4C4F-8C30-00CA0BDC4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B7F7-6727-4A99-AF1A-635586818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1C55-E6DF-4140-BA89-301ED510F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F53FE-C936-43F0-9382-FA8FFF16E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A27F5-BE38-436A-AF45-202E59AFD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EAEAD-C133-4C5E-992D-9CD08E279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9C964-FC2E-420D-83E6-2A8E66C41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72164-7462-46F8-A983-86CBE1DA5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1670B-A44A-4E7D-9021-38C338D90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0CF18-CA65-4F69-86EE-DBF77049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6152-C64E-404D-88F8-1637D8028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3699D-C1B2-40FE-9301-89A3B008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2C7F0-DBD2-4102-816F-75A1F575B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496CC-0466-48DA-8140-64355CB8D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8AB1D-A90C-4ED4-BC65-85D1C20ED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13EF6-DE31-4E29-B3FE-FEDB15840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78D6-8EA1-428A-8B5B-E2E8EAFE5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894A-1C7F-4B68-8A8D-D619EE583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B9D5-577A-40C9-AC18-853B4DC37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86E4-CB27-4475-8635-FC21C215A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2D44-67D5-46DB-90CE-3DE057AF3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A1C4-6A59-4117-A645-C5167968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8105-B00F-4F6B-B2AB-125D6537E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9d8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f9d87e"/>
                </a:gs>
                <a:gs pos="100000">
                  <a:srgbClr val="cc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9393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9393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39393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39393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9393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9393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9393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FDFB2-2098-45E2-8AEA-F23FCFF3BE70}" type="slidenum"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9d8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f9d87e"/>
                </a:gs>
                <a:gs pos="100000">
                  <a:srgbClr val="cc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9393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9393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9393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A6904-0489-477F-B799-0197C2463844}" type="slidenum"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Building Interview Skills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Student Workforce Readiness Project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PHRMA/SWHRMA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Times New Roman"/>
              </a:rPr>
              <a:t>Panel Interview</a:t>
            </a:r>
            <a:br>
              <a:rPr sz="4000"/>
            </a:br>
            <a:endParaRPr b="0" lang="en-US" sz="40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Usually 2-5 Interviewers at the same time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May be short, 30 minutes or long, 1-2 hours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Each interviewer has a set of questions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Reduces repeated questions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Everyone hears the same answer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Times New Roman"/>
              </a:rPr>
              <a:t>Sequential Interview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Usually 2-5 Interviews, one after another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May last several hours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Increased chance that questions are repeated…watch out, it can be a trap!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Be careful! Your answers may change over time.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Times New Roman"/>
              </a:rPr>
              <a:t>Behavioral Interview</a:t>
            </a:r>
            <a:br>
              <a:rPr sz="4000"/>
            </a:br>
            <a:endParaRPr b="0" lang="en-US" sz="40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93939"/>
                </a:solidFill>
                <a:latin typeface="Times New Roman"/>
              </a:rPr>
              <a:t>“</a:t>
            </a:r>
            <a:r>
              <a:rPr b="1" i="1" lang="en-US" sz="2800" spc="-1" strike="noStrike">
                <a:solidFill>
                  <a:srgbClr val="393939"/>
                </a:solidFill>
                <a:latin typeface="Times New Roman"/>
              </a:rPr>
              <a:t>Past Performance Is An Indicator of Future Behavior”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Questions focus on our </a:t>
            </a:r>
            <a:r>
              <a:rPr b="1" i="1" lang="en-US" sz="2800" spc="-1" strike="noStrike">
                <a:solidFill>
                  <a:srgbClr val="393939"/>
                </a:solidFill>
                <a:latin typeface="Times New Roman"/>
              </a:rPr>
              <a:t>abilities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Based upon actual work </a:t>
            </a:r>
            <a:r>
              <a:rPr b="1" i="1" lang="en-US" sz="2800" spc="-1" strike="noStrike">
                <a:solidFill>
                  <a:srgbClr val="393939"/>
                </a:solidFill>
                <a:latin typeface="Times New Roman"/>
              </a:rPr>
              <a:t>situations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Employers want</a:t>
            </a:r>
            <a:r>
              <a:rPr b="1" i="1" lang="en-US" sz="2800" spc="-1" strike="noStrike">
                <a:solidFill>
                  <a:srgbClr val="393939"/>
                </a:solidFill>
                <a:latin typeface="Times New Roman"/>
              </a:rPr>
              <a:t> actual examples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93939"/>
                </a:solidFill>
                <a:latin typeface="Times New Roman"/>
              </a:rPr>
              <a:t>Tied to requirements</a:t>
            </a: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 of job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Usually are more </a:t>
            </a:r>
            <a:r>
              <a:rPr b="1" i="1" lang="en-US" sz="2800" spc="-1" strike="noStrike">
                <a:solidFill>
                  <a:srgbClr val="393939"/>
                </a:solidFill>
                <a:latin typeface="Times New Roman"/>
              </a:rPr>
              <a:t>subjective</a:t>
            </a: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 (no yes or no answers)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Basic Behavioral Questions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Situational…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Tell me about a time when you had to deal with an angry customer.  How did you handle it?”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Oppositiona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What are your strengths…weaknesses”  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Tell me about a time you were successful…about a time you failed…”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cc"/>
                </a:solidFill>
                <a:latin typeface="Times New Roman"/>
              </a:rPr>
              <a:t>Standard Interview Questions – </a:t>
            </a:r>
            <a:br>
              <a:rPr sz="4000"/>
            </a:br>
            <a:r>
              <a:rPr b="0" lang="en-US" sz="4000" spc="-1" strike="noStrike">
                <a:solidFill>
                  <a:srgbClr val="6600cc"/>
                </a:solidFill>
                <a:latin typeface="Times New Roman"/>
              </a:rPr>
              <a:t>What are they looking for?</a:t>
            </a:r>
            <a:endParaRPr b="0" lang="en-US" sz="40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93939"/>
                </a:solidFill>
                <a:latin typeface="Times New Roman"/>
              </a:rPr>
              <a:t>What do they want to know…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93939"/>
                </a:solidFill>
                <a:latin typeface="Times New Roman"/>
              </a:rPr>
              <a:t>Knowledge, Skills, or Abilities?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Opening Question…”Tell me about yourself.”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Situation Questions…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Opposition Questions…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Final Questions… “Why do you want this job, and why should we hire you?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Do’s &amp; Don’ts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Do’s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Know something about the company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Read the ad and make a list of what they want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Practice your intro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Dress appropriately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Show up on time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Positive attitude, smile, show interest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Good eye contact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Ask questions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Don’ts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Expect your resume to do the work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Talk negatively about former companies or co-workers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Be late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Wear cologne or perfume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Too weak or too strong handshakes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Yes/No answers only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Body posture/Non-verbal signals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Questions?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lass Objectives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Understand the purpose of a interview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Understand what employers want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Understand how to prepare for an interview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Interview Do’s and Don’ts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A Resume is Not Enough!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The words on your resume are only about 15% of the story...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What’s the rest???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Verbal vs. Non-Verbal Communication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What we see (visual)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What we hear (auditory)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What we do (kinesthetic)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Employers read these signals…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Times New Roman"/>
              </a:rPr>
              <a:t>What Do Employers Want?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3939"/>
                </a:solidFill>
                <a:latin typeface="Times New Roman"/>
              </a:rPr>
              <a:t>                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52480" y="2209680"/>
            <a:ext cx="2867040" cy="2667240"/>
          </a:xfrm>
          <a:prstGeom prst="ellipse">
            <a:avLst/>
          </a:prstGeom>
          <a:noFill/>
          <a:ln w="936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40120" y="2209680"/>
            <a:ext cx="3094200" cy="2743200"/>
          </a:xfrm>
          <a:prstGeom prst="ellipse">
            <a:avLst/>
          </a:prstGeom>
          <a:noFill/>
          <a:ln w="936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63720" y="3886200"/>
            <a:ext cx="3017880" cy="2590920"/>
          </a:xfrm>
          <a:prstGeom prst="ellipse">
            <a:avLst/>
          </a:prstGeom>
          <a:noFill/>
          <a:ln w="936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443320" y="3429000"/>
            <a:ext cx="60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05120" y="3200400"/>
            <a:ext cx="19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93939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70280" y="3276720"/>
            <a:ext cx="188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93939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393939"/>
                </a:solidFill>
                <a:latin typeface="Arial"/>
              </a:rPr>
              <a:t>SKILLS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89320" y="5181480"/>
            <a:ext cx="180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93939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393939"/>
                </a:solidFill>
                <a:latin typeface="Arial"/>
              </a:rPr>
              <a:t>ABILITIES</a:t>
            </a:r>
            <a:endParaRPr b="0" lang="en-US" sz="20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Times New Roman"/>
              </a:rPr>
              <a:t>What Do Employers Want?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3939"/>
                </a:solidFill>
                <a:latin typeface="Times New Roman"/>
              </a:rPr>
              <a:t>KNOWLEDGE</a:t>
            </a: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 (Education, Experience, etc.)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3939"/>
                </a:solidFill>
                <a:latin typeface="Times New Roman"/>
              </a:rPr>
              <a:t>SKILL</a:t>
            </a: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 (Proficiencies, Interests, Motivation, etc.)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3939"/>
                </a:solidFill>
                <a:latin typeface="Times New Roman"/>
              </a:rPr>
              <a:t>ABILITIES</a:t>
            </a: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 (Physical, Mental, Behaviors, Values, etc.)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What Do Employers Want?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Interviews are the way employers judge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your knowledge, skills and abilities…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by evaluating the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93939"/>
                </a:solidFill>
                <a:latin typeface="Times New Roman"/>
              </a:rPr>
              <a:t>visual </a:t>
            </a: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(what they see), 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93939"/>
                </a:solidFill>
                <a:latin typeface="Times New Roman"/>
              </a:rPr>
              <a:t>auditory</a:t>
            </a: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 (what they hear), and 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93939"/>
                </a:solidFill>
                <a:latin typeface="Times New Roman"/>
              </a:rPr>
              <a:t>kinesthetic</a:t>
            </a: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 (what they see us do) 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signals that you give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Types of Interviews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Telephone or Pre-Screen Interview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One on One (Face to Face) Interview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Group Interviews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Panel (a group of interviewers at one time)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Sequential (a group who interview one after another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Behavioral Interview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Types of Interviews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Discussion?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What kind of interviews have you experienced?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What are the advantages and disadvantages of each?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What do you think employers are looking for in each type?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Times New Roman"/>
              </a:rPr>
              <a:t>Telephone or Pre-screen Interview </a:t>
            </a:r>
            <a:endParaRPr b="0" lang="en-US" sz="40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Generally, content oriented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Usually lasting about 20-30 minutes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Pre-qualify candidates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Usually conducted by recruiter, HR, etc.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5T20:27:41Z</dcterms:created>
  <dc:creator>Penny McBain</dc:creator>
  <dc:description/>
  <dc:language>en-US</dc:language>
  <cp:lastModifiedBy>william mcbain</cp:lastModifiedBy>
  <dcterms:modified xsi:type="dcterms:W3CDTF">2006-10-16T16:50:46Z</dcterms:modified>
  <cp:revision>13</cp:revision>
  <dc:subject/>
  <dc:title>Customizing Your Resume</dc:title>
</cp:coreProperties>
</file>