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28E-E1DE-4F02-A465-F39A02AA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2191-7288-48F8-8B44-7C80E6C8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6B0-3C45-4DC5-8C98-DAF38DED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4FF3-7AA2-490F-9188-A8245AAD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2E6A-F1F0-44B0-AE0D-EA8F41DE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69BF-2FA7-4AFB-82BA-5B33633F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47A9-5204-48A9-BCAA-406D7A23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603F-C97C-4E3E-A948-9CA3F02D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5611-784E-44CC-A96F-13F303DB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420C-3CD0-4D80-A7C3-32C383F6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13EB-84CE-4D67-B05F-CBCDEB78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0AF-3A46-4B9D-87F2-E4F3C7EF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E340-0B55-4A16-8F4B-D02FA39D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CA40-F6FD-4A0B-A443-BC259DD2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6E45-1B0A-4893-AFF9-CD0A59F7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B5F6-1102-4AB4-9F97-0F5AD1C0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EDBD-805F-46FA-A3F3-E87C3045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E6C-6574-4189-B3F7-C1A33774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24C3-F697-461C-9245-9E1BE12F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9E5A-772B-4546-A0F9-2D1E1D25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F55-465A-418A-A0F0-270A9A28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B1AD-3440-4344-BC9A-01CCC2AB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AE4-DA91-4C9E-A89F-9011743E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A361-A2DE-4544-B838-2C3AB1CE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099F-89CD-4CC7-BEB5-6A2DFD21F687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93E6-B2A8-4C6C-A33D-0DDB337744B8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Building Interview Skill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tudent Workforce Readiness Projec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PHRMA/SWHRMA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Panel Interview</a:t>
            </a:r>
            <a:br>
              <a:rPr sz="4000"/>
            </a:b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sually 2-5 Interviewers at the same tim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May be short, 30 minutes or long, 1-2 hour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Each interviewer has a set of question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Reduces repeated question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Everyone hears the same answer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Sequential Interview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sually 2-5 Interviews, one after another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May last several hour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Increased chance that questions are repeated…watch out, it can be a trap!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Be careful! Your answers may change over time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Behavioral Interview</a:t>
            </a:r>
            <a:br>
              <a:rPr sz="4000"/>
            </a:b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93939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393939"/>
                </a:solidFill>
                <a:latin typeface="Times New Roman"/>
              </a:rPr>
              <a:t>Past Performance Is An Indicator of Future Behavior”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Questions focus on our </a:t>
            </a:r>
            <a:r>
              <a:rPr b="1" i="1" lang="en-US" sz="2800" spc="-1" strike="noStrike">
                <a:solidFill>
                  <a:srgbClr val="393939"/>
                </a:solidFill>
                <a:latin typeface="Times New Roman"/>
              </a:rPr>
              <a:t>abilitie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Based upon actual work </a:t>
            </a:r>
            <a:r>
              <a:rPr b="1" i="1" lang="en-US" sz="2800" spc="-1" strike="noStrike">
                <a:solidFill>
                  <a:srgbClr val="393939"/>
                </a:solidFill>
                <a:latin typeface="Times New Roman"/>
              </a:rPr>
              <a:t>situation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mployers want</a:t>
            </a:r>
            <a:r>
              <a:rPr b="1" i="1" lang="en-US" sz="2800" spc="-1" strike="noStrike">
                <a:solidFill>
                  <a:srgbClr val="393939"/>
                </a:solidFill>
                <a:latin typeface="Times New Roman"/>
              </a:rPr>
              <a:t> actual example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93939"/>
                </a:solidFill>
                <a:latin typeface="Times New Roman"/>
              </a:rPr>
              <a:t>Tied to requirements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of job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Usually are more </a:t>
            </a:r>
            <a:r>
              <a:rPr b="1" i="1" lang="en-US" sz="2800" spc="-1" strike="noStrike">
                <a:solidFill>
                  <a:srgbClr val="393939"/>
                </a:solidFill>
                <a:latin typeface="Times New Roman"/>
              </a:rPr>
              <a:t>subjective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(no yes or no answers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Basic Behavioral Question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tuational…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Tell me about a time when you had to deal with an angry customer.  How did you handle it?”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Oppositiona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What are your strengths…weaknesses” 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Tell me about a time you were successful…about a time you failed…”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Standard Interview Questions – </a:t>
            </a:r>
            <a:br>
              <a:rPr sz="4000"/>
            </a:b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What are they looking for?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93939"/>
                </a:solidFill>
                <a:latin typeface="Times New Roman"/>
              </a:rPr>
              <a:t>What do they want to know…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93939"/>
                </a:solidFill>
                <a:latin typeface="Times New Roman"/>
              </a:rPr>
              <a:t>Knowledge, Skills, or Abilities?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Opening Question…”Tell me about yourself.”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ituation Questions…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Opposition Questions…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Final Questions… “Why do you want this job, and why should we hire you?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Do’s &amp; Don’t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Do’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Know something about the company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Read the ad and make a list of what they want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Practice your intro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Dress appropriately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Show up on tim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Positive attitude, smile, show interest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Good eye contact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Ask questions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Don’t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Expect your resume to do the work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Talk negatively about former companies or co-workers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Be lat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Wear cologne or perfum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Too weak or too strong handshakes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Yes/No answers only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Body posture/Non-verbal signals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 Objectiv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nderstand the purpose of a interview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nderstand what employers wan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nderstand how to prepare for an interview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Interview Do’s and Don’t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A Resume is Not Enough!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e words on your resume are only about 15% of the story..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What’s the rest???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Verbal vs. Non-Verbal Communication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What we see (visual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What we hear (auditory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What we do (kinesthetic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Employers read these signals…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What Do Employers Want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209680"/>
            <a:ext cx="2867040" cy="2667240"/>
          </a:xfrm>
          <a:prstGeom prst="ellipse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0120" y="2209680"/>
            <a:ext cx="3094200" cy="2743200"/>
          </a:xfrm>
          <a:prstGeom prst="ellipse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63720" y="3886200"/>
            <a:ext cx="3017880" cy="2590920"/>
          </a:xfrm>
          <a:prstGeom prst="ellipse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43320" y="3429000"/>
            <a:ext cx="60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320040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93939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70280" y="327672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93939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393939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89320" y="518148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93939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393939"/>
                </a:solidFill>
                <a:latin typeface="Arial"/>
              </a:rPr>
              <a:t>ABILITIES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What Do Employers Want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KNOWLEDGE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(Education, Experience, etc.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SKILL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(Proficiencies, Interests, Motivation, etc.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ABILITIES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(Physical, Mental, Behaviors, Values, etc.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What Do Employers Want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Interviews are the way employers judg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your knowledge, skills and abilities…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by evaluating th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93939"/>
                </a:solidFill>
                <a:latin typeface="Times New Roman"/>
              </a:rPr>
              <a:t>visual 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(what they see),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93939"/>
                </a:solidFill>
                <a:latin typeface="Times New Roman"/>
              </a:rPr>
              <a:t>auditory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(what they hear), and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93939"/>
                </a:solidFill>
                <a:latin typeface="Times New Roman"/>
              </a:rPr>
              <a:t>kinesthetic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(what they see us do)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gnals that you giv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ypes of Interview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elephone or Pre-Screen Interview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One on One (Face to Face) Interview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Group Interview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Panel (a group of interviewers at one time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equential (a group who interview one after another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Behavioral Interview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ypes of Interview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Discussion?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What kind of interviews have you experienced?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What are the advantages and disadvantages of each?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What do you think employers are looking for in each type?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Telephone or Pre-screen Interview 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Generally, content oriented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sually lasting about 20-30 minute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Pre-qualify candidate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sually conducted by recruiter, HR, etc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27:41Z</dcterms:created>
  <dc:creator>Penny McBain</dc:creator>
  <dc:description/>
  <dc:language>en-US</dc:language>
  <cp:lastModifiedBy>william mcbain</cp:lastModifiedBy>
  <dcterms:modified xsi:type="dcterms:W3CDTF">2006-10-16T16:50:46Z</dcterms:modified>
  <cp:revision>13</cp:revision>
  <dc:subject/>
  <dc:title>Customizing Your Resume</dc:title>
</cp:coreProperties>
</file>