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DF0A-F94C-4691-A63A-4BC6737AB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know your value” question…exercise…have each student talk about his/her best skill, and about the value in the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930-EE52-4344-8253-C2815350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976-191D-4398-973A-EAEA8A6D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951-8987-4B14-B743-0A11E691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065-024A-4311-916F-B8C337A7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00E6-AFDD-4D65-A8C2-6407A091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7DC1-2A16-4FC3-B7C9-D50E7962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8DD2-73C9-4901-B662-11C40E5B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CEF9-C556-4FD7-8CEF-EF892174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9B13-B9D0-476C-8CF9-A1F341F5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D0A8-8AEF-4721-ADD9-D25443F7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D588-2A0A-4646-8530-CD9CF28E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078-D1DC-487F-89E4-89E8DE3F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85C0-56BD-4310-AFB9-BB3145F7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58F1-719F-415A-94E4-A45B2CFC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3B50-E286-4FDF-804C-88B0CA5C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3888-BF6D-4E14-B991-316F127C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8BCF-429C-4241-8433-0909C127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01D-E531-4F6C-947C-818564A5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D2A-D46E-4671-9E81-3AA9B8BF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060-29D2-4DF6-834B-CFB279E7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406-3E98-4952-83FF-08335C33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453-BFDE-40B2-99C5-89901E97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C9A-89C1-4276-A5CF-F62D8ACA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57D-0EE2-49DF-91EC-9577AF41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939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A98D-08F8-46F7-A697-46EBCB745FE1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9d8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f9d87e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93939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C328-B291-4322-859A-67F66E7D3DA7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Building Your Resum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Student WorkForce Readiness Projec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PHRMA/SWHRMA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argeted Resum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Employers understand what you want to do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Employers can understand how your total experience make you a good candidat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You can customize and emphasize your capabiliti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Disadvantage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When you prefer to use one resume for several application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When you are not clear about how your capabilities match to the job targe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When your experience is light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How Employers Read Resum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canning v. Reading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10-20 second rul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Seven Word” rul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op to bottom, left to right, first v. second pag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Key words, phrases, in order of priority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Job Goal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Minimum Qualification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Relevant Skill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39393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mpanies, Titles, Dat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Building a Resum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Heading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Name, Address, Telephone, Email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Free email account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Objective v. Summary Paragraph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Potential v. Experienc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Professional Experience Section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Company, City State, Date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Accomplishment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Repeat for Each Company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Building a Resume, continued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Education Section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raining Section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echnical Skills Section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Volunteer Experience Section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Other Section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nything that is relevant to the job you are seeking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Building a Resume, continued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ccomplishments v. Task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he difference is accomplishments show result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PAR Formula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P = Problem or Task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A = Action you took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R = Result you achieved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Actively listened and responded customer inquiries which reduced the number of problem issues escalated to the manager and increased customer satisfaction.”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Formatting Tip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e the same font throughout the resum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e easy to read 12 point font, e.g., New Times Roman, Arial, etc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1” Margins, top, bottom, sid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e bullets instead of paragraph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se spell check and have someone proofread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93939"/>
                </a:solidFill>
                <a:latin typeface="Times New Roman"/>
              </a:rPr>
              <a:t>Bold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is ok, no </a:t>
            </a:r>
            <a:r>
              <a:rPr b="0" lang="en-US" sz="3200" spc="-1" strike="noStrike" u="sng">
                <a:solidFill>
                  <a:srgbClr val="393939"/>
                </a:solidFill>
                <a:uFillTx/>
                <a:latin typeface="Times New Roman"/>
              </a:rPr>
              <a:t>underlines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393939"/>
                </a:solidFill>
                <a:latin typeface="Times New Roman"/>
              </a:rPr>
              <a:t>italic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argeting a Resume Exercis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Find a job advertisement of interes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Read the job advertisement thoroughly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Use Highlighter and mark KSA’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Make a list of key skills and requirements for the job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Check off the skills you hav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Write accomplishments that match what the employer is seeking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Include this information on the resum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                </a:t>
            </a: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ass Objectiv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nderstand the purpose of a resum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Product v. History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nderstand how employers read resum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canning v. Reading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nderstand how to build a resume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Do’s v. Don’t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Understand how to target a resume based on specific employer needs 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Why Do Employers Want a Resume?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Each job has different requirement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When skills match requirements, Recruiters &amp; Hiring Managers pay attention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Demonstrates a higher degree of interest and professionalism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Links your Knowledge, Skills and Abilities (KSA’s) and business’s needs.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</a:rPr>
              <a:t>Your Resume Is a Marketing Tool And You Are The Product!!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Your experience and skills have value…your salary!!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Do you know your value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Budgets are tight and $$ can’t be wasted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Employers search for the “Best Candidate”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What can you do for us?”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an we get “added value” by hiring you?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Times New Roman"/>
              </a:rPr>
              <a:t>Your Resume Is a Marketing Tool And You Are The Product!!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Your resume(s) should: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Grab attention of recruiters, hiring managers who are involved in the selection proces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Highlight why you are the best candidat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Accurately market your Knowledge, Skills and Abilities (KSA’s)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Show information that will “rule you in”, not “screen you out.”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Be visually easy to read and understand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ypes of Resum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hronological (70%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Most widely used 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mphasizes actual work history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Highlights “things”, e.g., title, company, skills, duties, accomplishment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Best format for getting a job in something you’ve done befor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Focuses on actual experience and accomplishment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ypes of Resum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Functional (30%)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mphasizes skills and knowledge not directly linked to a particular job or experienc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De-emphasizes chronology, gaps of time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Focuses on similar functions or skills, across different industries or job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Effective when beginning or changing careers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ypes of Resum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Targeted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Blends Chronological and Functional forma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Focuses on a clear, specific job targe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Matches the job target with your own job goal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3939"/>
                </a:solidFill>
                <a:latin typeface="Times New Roman"/>
              </a:rPr>
              <a:t>Lists skills and supporting accomplishments directly related to specific job targe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argeted Resum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1752480"/>
            <a:ext cx="3581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93939"/>
                </a:solidFill>
                <a:uFillTx/>
                <a:latin typeface="Times New Roman"/>
              </a:rPr>
              <a:t>Do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Begin with a specific job target or objective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Use specific industry terminology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Include relevant education/training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Include volunteer/paid experience related to targeted job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920" y="1676520"/>
            <a:ext cx="4114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93939"/>
                </a:solidFill>
                <a:uFillTx/>
                <a:latin typeface="Times New Roman"/>
              </a:rPr>
              <a:t>Don’t</a:t>
            </a:r>
            <a:endParaRPr b="0" lang="en-US" sz="28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Overdo the use of industry terms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Indicate abilities that aren’t credible based upon your background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Focus on areas that are not relevant 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9393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Emphasize dates of employment unless experience is recent and relevant</a:t>
            </a:r>
            <a:r>
              <a:rPr b="0" lang="en-US" sz="2000" spc="-1" strike="noStrike">
                <a:solidFill>
                  <a:srgbClr val="39393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93939"/>
                </a:solidFill>
                <a:latin typeface="Times New Roman"/>
              </a:rPr>
              <a:t>to job target.</a:t>
            </a: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27:41Z</dcterms:created>
  <dc:creator>Penny McBain</dc:creator>
  <dc:description/>
  <dc:language>en-US</dc:language>
  <cp:lastModifiedBy>william mcbain</cp:lastModifiedBy>
  <dcterms:modified xsi:type="dcterms:W3CDTF">2006-10-16T15:33:43Z</dcterms:modified>
  <cp:revision>10</cp:revision>
  <dc:subject/>
  <dc:title>Customizing Your Resume</dc:title>
</cp:coreProperties>
</file>