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2E65-164F-44BD-B082-92DB9E485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know your value” question…exercise…have each student talk about his/her best skill, and about the value in the 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4E43-4D8A-4765-89A3-7B0139CCF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3D64-154A-4CA7-8EFD-B9860E10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BC99-4318-4E7A-8712-ACA709084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27EA-8BFC-4EA1-B5D5-3C20401D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5996-B08B-4B9B-A858-2653D9F9D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F855-A2D5-4F72-9314-5A224B06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D2BF-8895-485F-83B5-FC9AE84E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6B08-517E-4F22-AC5E-538EBBA8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A164-5ED8-4BC1-B8DB-E3734B6B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E972-0061-49AD-A8AC-595E09D8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AD79-D566-4A1E-B3AC-6069FC51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6399-20AE-4CCE-BC9A-AA0FF558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FBE3-3A13-4C09-9015-AA687EE5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3734-EDBF-415E-9A74-AC4D0829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DB4E-4BDB-4717-B785-D0CDC921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608B-B492-4D99-A8E8-AF51AE9CB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ACC9-C52C-45A4-B5D4-D4AAAC83E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C134-05D3-435A-AE47-E18814C9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F89C-8113-4E7B-93A8-5686B955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C358-8BCD-4073-B692-B4C84B35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254C-CA60-44CE-8836-0E0DD5B2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E22D-F04D-48BF-8C06-CD6BAD1A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6D8E-4AB0-44E7-8594-2D4A6073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BB97-3814-4E09-B22D-6B8E4D04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9d8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f9d87e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D7F3-8246-44EF-8477-D847A09202FE}" type="slidenum"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9d8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f9d87e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862A-CA4F-4C70-A11E-32536FA7C7AE}" type="slidenum"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Building Your Resume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tudent WorkForce Readiness Project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PHRMA/SWHRMA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Targeted Resume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Advantage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Employers understand what you want to do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Employers can understand how your total experience make you a good candidate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You can customize and emphasize your capabilities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Disadvantage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When you prefer to use one resume for several applications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When you are not clear about how your capabilities match to the job target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When your experience is light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How Employers Read Resume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Scanning v. Reading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10-20 second rule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Seven Word” rule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Top to bottom, left to right, first v. second page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Key words, phrases, in order of priority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39393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Job Goal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39393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Minimum Qualifications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39393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Relevant Skills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39393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Companies, Titles, Dates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Building a Resume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Heading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Name, Address, Telephone, Email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Free email accounts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Objective v. Summary Paragraph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Potential v. Experience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Professional Experience Section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Company, City State, Dates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Accomplishments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Repeat for Each Company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Building a Resume, continued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Education Section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raining Section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echnical Skills Section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Volunteer Experience Section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Other Section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Anything that is relevant to the job you are seeking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Building a Resume, continued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Accomplishments v. Task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The difference is accomplishments show results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PAR Formula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P = Problem or Task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A = Action you took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R = Result you achieved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Actively listened and responded customer inquiries which reduced the number of problem issues escalated to the manager and increased customer satisfaction.”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Formatting Tip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Use the same font throughout the resume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Use easy to read 12 point font, e.g., New Times Roman, Arial, etc.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1” Margins, top, bottom, side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Use bullets instead of paragraph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Use spell check and have someone proofread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93939"/>
                </a:solidFill>
                <a:latin typeface="Times New Roman"/>
              </a:rPr>
              <a:t>Bold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 is ok, no </a:t>
            </a:r>
            <a:r>
              <a:rPr b="0" lang="en-US" sz="3200" spc="-1" strike="noStrike" u="sng">
                <a:solidFill>
                  <a:srgbClr val="393939"/>
                </a:solidFill>
                <a:uFillTx/>
                <a:latin typeface="Times New Roman"/>
              </a:rPr>
              <a:t>underlines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 or </a:t>
            </a:r>
            <a:r>
              <a:rPr b="0" i="1" lang="en-US" sz="3200" spc="-1" strike="noStrike">
                <a:solidFill>
                  <a:srgbClr val="393939"/>
                </a:solidFill>
                <a:latin typeface="Times New Roman"/>
              </a:rPr>
              <a:t>italic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Targeting a Resume Exercise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Find a job advertisement of interest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Read the job advertisement thoroughly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Use Highlighter and mark KSA’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Make a list of key skills and requirements for the job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Check off the skills you have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Write accomplishments that match what the employer is seeking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Include this information on the resume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                </a:t>
            </a: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ass Objective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Understand the purpose of a resume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Product v. History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Understand how employers read resume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Scanning v. Reading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Understand how to build a resume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Do’s v. Don’t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Understand how to target a resume based on specific employer needs 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Why Do Employers Want a Resume?</a:t>
            </a: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Each job has different requirement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When skills match requirements, Recruiters &amp; Hiring Managers pay attention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Demonstrates a higher degree of interest and professionalism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Links your Knowledge, Skills and Abilities (KSA’s) and business’s needs.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Your Resume Is a Marketing Tool And You Are The Product!!</a:t>
            </a: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Your experience and skills have value…your salary!!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Do you know your value?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Budgets are tight and $$ can’t be wasted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Employers search for the “Best Candidate”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What can you do for us?”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Can we get “added value” by hiring you?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Times New Roman"/>
              </a:rPr>
              <a:t>Your Resume Is a Marketing Tool And You Are The Product!!</a:t>
            </a: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Your resume(s) should: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Grab attention of recruiters, hiring managers who are involved in the selection proces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Highlight why you are the best candidate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Accurately market your Knowledge, Skills and Abilities (KSA’s)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Show information that will “rule you in”, not “screen you out.”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Be visually easy to read and understand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Types of Resume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Chronological (70%)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Most widely used 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Emphasizes actual work history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Highlights “things”, e.g., title, company, skills, duties, accomplishment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Best format for getting a job in something you’ve done before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Focuses on actual experience and accomplishment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Types of Resume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Functional (30%)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Emphasizes skills and knowledge not directly linked to a particular job or experience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De-emphasizes chronology, gaps of time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Focuses on similar functions or skills, across different industries or job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Effective when beginning or changing career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Types of Resume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argeted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Blends Chronological and Functional format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Focuses on a clear, specific job target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Matches the job target with your own job goal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Lists skills and supporting accomplishments directly related to specific job target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Targeted Resume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4920" y="1752480"/>
            <a:ext cx="3581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93939"/>
                </a:solidFill>
                <a:uFillTx/>
                <a:latin typeface="Times New Roman"/>
              </a:rPr>
              <a:t>Do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Begin with a specific job target or objective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Use specific industry terminology 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Include relevant education/training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Include volunteer/paid experience related to targeted job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76920" y="1676520"/>
            <a:ext cx="4114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93939"/>
                </a:solidFill>
                <a:uFillTx/>
                <a:latin typeface="Times New Roman"/>
              </a:rPr>
              <a:t>Don’t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Overdo the use of industry terms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Indicate abilities that aren’t credible based upon your background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Focus on areas that are not relevant 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Emphasize dates of employment unless experience is recent and relevant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to job target.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20:27:41Z</dcterms:created>
  <dc:creator>Penny McBain</dc:creator>
  <dc:description/>
  <dc:language>en-US</dc:language>
  <cp:lastModifiedBy>william mcbain</cp:lastModifiedBy>
  <dcterms:modified xsi:type="dcterms:W3CDTF">2006-10-16T15:33:43Z</dcterms:modified>
  <cp:revision>10</cp:revision>
  <dc:subject/>
  <dc:title>Customizing Your Resume</dc:title>
</cp:coreProperties>
</file>