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C773-FBEA-4ABF-9248-9AB06AF5F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1FBB-14D6-40FD-B93B-55A85E8B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2266B-67AA-4155-85A6-38EFC8F36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0F69E-95A9-4C51-A911-B5AE46B61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8319A-AA74-404E-BFC2-A9FC891DB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B0AF-13D0-4045-B813-D092CA48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E2D5-3BF4-4ECE-96EE-BBFC53E3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F6B43-0B4D-4C57-A9C9-66A53570D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7CF7-0BA5-45C7-A9DC-B6A8B51B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F6EF-7AD0-49BB-BC09-7391C2EBD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E8B2-4A01-413E-8AD8-85BE1345B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BC51-C200-4555-888D-5128A8978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F9D1-13EE-4DAC-8C56-843563CEA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5280" y="609120"/>
            <a:ext cx="49024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a5b7c"/>
                </a:solidFill>
                <a:latin typeface="Verdana"/>
              </a:rPr>
              <a:t>GCHRA</a:t>
            </a:r>
            <a:endParaRPr b="0" lang="en-US" sz="6600" spc="-1" strike="noStrike">
              <a:solidFill>
                <a:srgbClr val="000000"/>
              </a:solidFill>
              <a:latin typeface="Times New Roman"/>
            </a:endParaRPr>
          </a:p>
        </p:txBody>
      </p:sp>
      <p:sp>
        <p:nvSpPr>
          <p:cNvPr id="42" name="PlaceHolder 2"/>
          <p:cNvSpPr>
            <a:spLocks noGrp="1"/>
          </p:cNvSpPr>
          <p:nvPr>
            <p:ph/>
          </p:nvPr>
        </p:nvSpPr>
        <p:spPr>
          <a:xfrm>
            <a:off x="685800" y="1943280"/>
            <a:ext cx="7772400" cy="44575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reater Cincinnati Human Resources Association is pleased to offer Cincinnati area schools (K thru College) the free services of the GCHRA Speakers Bureau.  Members of the Speakers Bureau are local Human Resources professionals who give presentations to classes or other student groups on many employment related topics, such as…</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Interviewing Skills/Mock Interviews</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1" lang="en-US" sz="1200" spc="-1" strike="noStrike">
                <a:solidFill>
                  <a:srgbClr val="000000"/>
                </a:solidFill>
                <a:latin typeface="Tahoma"/>
              </a:rPr>
              <a:t>Dressing for success in the workplace</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Resume preparation</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Applying for a first job</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Job search strategies</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Career exploration</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Drug free workplace</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learn more about these and other topics OR to schedule a speaker for your classroom or student group, please contact:</a:t>
            </a:r>
            <a:endParaRPr b="0" lang="en-US" sz="1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ng Spitler </a:t>
            </a:r>
            <a:endParaRPr b="0" lang="en-US" sz="1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CHRA Education Advocacy Committee</a:t>
            </a:r>
            <a:endParaRPr b="0" lang="en-US" sz="12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13.771-4042</a:t>
            </a:r>
            <a:endParaRPr b="0" lang="en-US" sz="12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ng.spitler@sanswrite.com</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
          <p:cNvSpPr/>
          <p:nvPr/>
        </p:nvSpPr>
        <p:spPr>
          <a:xfrm>
            <a:off x="0" y="1584360"/>
            <a:ext cx="6477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5b7c"/>
                </a:solidFill>
                <a:latin typeface="Verdana"/>
              </a:rPr>
              <a:t>Greater Cincinnati Human Resources Association</a:t>
            </a:r>
            <a:endParaRPr b="0" lang="en-US" sz="1000" spc="-1" strike="noStrike">
              <a:solidFill>
                <a:srgbClr val="000000"/>
              </a:solidFill>
              <a:latin typeface="Times New Roman"/>
            </a:endParaRPr>
          </a:p>
        </p:txBody>
      </p:sp>
      <p:pic>
        <p:nvPicPr>
          <p:cNvPr id="44" name="" descr=""/>
          <p:cNvPicPr/>
          <p:nvPr/>
        </p:nvPicPr>
        <p:blipFill>
          <a:blip r:embed="rId2"/>
          <a:stretch/>
        </p:blipFill>
        <p:spPr>
          <a:xfrm>
            <a:off x="838080" y="152280"/>
            <a:ext cx="1067040" cy="10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17:23:17Z</dcterms:created>
  <dc:creator>ddorman</dc:creator>
  <dc:description/>
  <dc:language>en-US</dc:language>
  <cp:lastModifiedBy>Bing Spitler</cp:lastModifiedBy>
  <dcterms:modified xsi:type="dcterms:W3CDTF">2008-06-16T02:18:13Z</dcterms:modified>
  <cp:revision>13</cp:revision>
  <dc:subject/>
  <dc:title>PowerPoint Presentation</dc:title>
</cp:coreProperties>
</file>