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96EB-C039-4834-BA1A-1EF611BC9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E5A1-7150-4D72-A1DD-E2557D8B0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B0847-6597-4232-A2F6-A471B83C9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BDAC5-61CA-4F38-B0DA-F69097A8D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8A506-44CF-4D9E-A215-D3B2C87FF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5D3B1-E219-4D44-8843-CBD10D0D4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C1466-82ED-4E93-B030-E2D1C5BB8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67A8-2C90-4559-8F1E-7CF9A5819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93A66-3333-44F3-B4FF-AC25462F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77620-6D9F-4E3F-92D4-AFAFD224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B341B-CF88-4BC4-84E3-9E16303D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09A21-DB96-44CA-A59E-A7BDF9ED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60341-3D88-42F2-9946-23E71BEE8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56EED-5935-49FC-A4FE-C8492FECC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A4375-8A72-4C70-9AAF-1160BB822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1A85D-C0CA-49F3-9277-EF4EEA854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6976F-2A09-4E9A-97C6-691AB3A1A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0C124-4551-42DC-8FE0-32CD785A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2AC59-2F0E-4B08-A571-7E85355B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68138-BCBB-4840-9577-522172A4F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9B5F4-6683-4B17-AF97-F9ACC5B29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1BDC-C004-4DBA-85A5-72374EC5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06A2-FA1E-4881-AE16-68DAB4FDE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94FE-43A6-4136-A30A-244BD8D35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EAF1-CF68-46B7-BC33-92C3C66CC9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CFEC-2306-4642-8584-F8C19DEE90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hio SHRM Government Affairs Issue Toolkit</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533520" y="2514600"/>
            <a:ext cx="8153280" cy="3308400"/>
          </a:xfrm>
          <a:prstGeom prst="rect">
            <a:avLst/>
          </a:prstGeom>
          <a:solidFill>
            <a:srgbClr val="ffffff"/>
          </a:solid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Ohio Healthy Families Act</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371240"/>
            <a:ext cx="76960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9" name="PlaceHolder 2"/>
          <p:cNvSpPr>
            <a:spLocks noGrp="1"/>
          </p:cNvSpPr>
          <p:nvPr>
            <p:ph type="subTitle"/>
          </p:nvPr>
        </p:nvSpPr>
        <p:spPr>
          <a:xfrm>
            <a:off x="609120" y="1066680"/>
            <a:ext cx="8153640" cy="3308400"/>
          </a:xfrm>
          <a:prstGeom prst="rect">
            <a:avLst/>
          </a:prstGeom>
          <a:solidFill>
            <a:srgbClr val="ffffff"/>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of Content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 Sheet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s 1-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us &amp; Call to Action</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lking Points for letter writing</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s 4-5</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Fact Sheet</a:t>
            </a:r>
            <a:endParaRPr b="0" lang="en-US" sz="2400" spc="-1" strike="noStrike">
              <a:solidFill>
                <a:srgbClr val="000000"/>
              </a:solidFill>
              <a:latin typeface="Times New Roman"/>
            </a:endParaRPr>
          </a:p>
        </p:txBody>
      </p:sp>
      <p:sp>
        <p:nvSpPr>
          <p:cNvPr id="101" name="PlaceHolder 2"/>
          <p:cNvSpPr>
            <a:spLocks noGrp="1"/>
          </p:cNvSpPr>
          <p:nvPr>
            <p:ph/>
          </p:nvPr>
        </p:nvSpPr>
        <p:spPr>
          <a:xfrm>
            <a:off x="228600" y="1066680"/>
            <a:ext cx="8686800" cy="5486400"/>
          </a:xfrm>
          <a:prstGeom prst="rect">
            <a:avLst/>
          </a:prstGeom>
          <a:solidFill>
            <a:srgbClr val="ffffff"/>
          </a:solidFill>
          <a:ln w="0">
            <a:noFill/>
          </a:ln>
        </p:spPr>
        <p:txBody>
          <a:bodyPr lIns="90000" rIns="90000" tIns="46800" bIns="46800" anchor="t">
            <a:normAutofit/>
          </a:bodyPr>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es to all Ohio employers with 25 or more employee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arantees full-time employees (30+ hrs./week) 7 days of paid sick leave annually (Part-time employees will receive a prorated amoun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es would be able to carry over up to 7 paid sick days each year, with no limit as to the total bank of sick day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intermittent FMLA, employers must track sick leave in the smallest increment allowed by the employers payroll system.</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es can use sick leave for an absence that is the result of:</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sical or mental illness</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jury</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condition </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taining professional medical diagnosis</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ventative medical care</a:t>
            </a:r>
            <a:endParaRPr b="0" lang="en-US" sz="1800" spc="-1" strike="noStrike">
              <a:solidFill>
                <a:srgbClr val="000000"/>
              </a:solidFill>
              <a:latin typeface="Times New Roman"/>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ck leave can also be taken for a child, parent (including in-laws), or spouse who has any of the above conditions.</a:t>
            </a:r>
            <a:endParaRPr b="0" lang="en-US" sz="1800" spc="-1" strike="noStrike">
              <a:solidFill>
                <a:srgbClr val="000000"/>
              </a:solidFill>
              <a:latin typeface="Times New Roman"/>
            </a:endParaRPr>
          </a:p>
        </p:txBody>
      </p:sp>
      <p:sp>
        <p:nvSpPr>
          <p:cNvPr id="102"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Fact Sheet</a:t>
            </a:r>
            <a:endParaRPr b="0" lang="en-US" sz="2400" spc="-1" strike="noStrike">
              <a:solidFill>
                <a:srgbClr val="000000"/>
              </a:solidFill>
              <a:latin typeface="Times New Roman"/>
            </a:endParaRPr>
          </a:p>
        </p:txBody>
      </p:sp>
      <p:sp>
        <p:nvSpPr>
          <p:cNvPr id="104" name="PlaceHolder 2"/>
          <p:cNvSpPr>
            <a:spLocks noGrp="1"/>
          </p:cNvSpPr>
          <p:nvPr>
            <p:ph/>
          </p:nvPr>
        </p:nvSpPr>
        <p:spPr>
          <a:xfrm>
            <a:off x="228600" y="1142640"/>
            <a:ext cx="8686800" cy="5181480"/>
          </a:xfrm>
          <a:prstGeom prst="rect">
            <a:avLst/>
          </a:prstGeom>
          <a:solidFill>
            <a:srgbClr val="ffffff"/>
          </a:solidFill>
          <a:ln w="0">
            <a:noFill/>
          </a:ln>
        </p:spPr>
        <p:txBody>
          <a:bodyPr lIns="90000" rIns="90000" tIns="46800" bIns="46800" anchor="t">
            <a:normAutofit/>
          </a:bodyPr>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ck days would begin to accumulate immediately. New employees can use sick days after 90 days of employmen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rs would not be able to require medical certification for sick leave unless the absence is more than three consecutive work day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the Act is enacted employers would not be able to reduce existing vacation or PTO policies in order to comply with the act.</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8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Status &amp; Call to Action</a:t>
            </a:r>
            <a:endParaRPr b="0" lang="en-US" sz="2400" spc="-1" strike="noStrike">
              <a:solidFill>
                <a:srgbClr val="000000"/>
              </a:solidFill>
              <a:latin typeface="Times New Roman"/>
            </a:endParaRPr>
          </a:p>
        </p:txBody>
      </p:sp>
      <p:sp>
        <p:nvSpPr>
          <p:cNvPr id="107" name="PlaceHolder 2"/>
          <p:cNvSpPr>
            <a:spLocks noGrp="1"/>
          </p:cNvSpPr>
          <p:nvPr>
            <p:ph/>
          </p:nvPr>
        </p:nvSpPr>
        <p:spPr>
          <a:xfrm>
            <a:off x="228600" y="1142640"/>
            <a:ext cx="8686800" cy="5181480"/>
          </a:xfrm>
          <a:prstGeom prst="rect">
            <a:avLst/>
          </a:prstGeom>
          <a:solidFill>
            <a:srgbClr val="ffffff"/>
          </a:solid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U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General Assembly has until the end of April to act on the petition that was submitted by the Service Employees International Union (SEIU).</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General Assembly fails to act, the SEIU will need to gather 120,000 signatures to place the issue on the November Ballo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TO ACTION:</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d the Ohio Legislative Conference on April 22</a:t>
            </a:r>
            <a:r>
              <a:rPr b="0" lang="en-US" sz="1800" spc="-1" strike="noStrike" baseline="30000">
                <a:solidFill>
                  <a:srgbClr val="000000"/>
                </a:solidFill>
                <a:latin typeface="Tahoma"/>
              </a:rPr>
              <a:t>nd</a:t>
            </a:r>
            <a:r>
              <a:rPr b="0" lang="en-US" sz="1800" spc="-1" strike="noStrike">
                <a:solidFill>
                  <a:srgbClr val="000000"/>
                </a:solidFill>
                <a:latin typeface="Tahoma"/>
              </a:rPr>
              <a:t> to meet with state legislators on the issue and learn from top Ohio companies what you can do to educate your workforce on the issue.</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e HR Professionals in your chapters on the issue and encourage them to write their state legislators using the talking points included in the ki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ge your members to begin preparing their organizations for action should the legislation go to the ballot in November.</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fact sheets and talking points in the toolkit to include in newsletter articles for your chapters.</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8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Talking Points</a:t>
            </a:r>
            <a:endParaRPr b="0" lang="en-US" sz="2400" spc="-1" strike="noStrike">
              <a:solidFill>
                <a:srgbClr val="000000"/>
              </a:solidFill>
              <a:latin typeface="Times New Roman"/>
            </a:endParaRPr>
          </a:p>
        </p:txBody>
      </p:sp>
      <p:sp>
        <p:nvSpPr>
          <p:cNvPr id="110" name="PlaceHolder 2"/>
          <p:cNvSpPr>
            <a:spLocks noGrp="1"/>
          </p:cNvSpPr>
          <p:nvPr>
            <p:ph/>
          </p:nvPr>
        </p:nvSpPr>
        <p:spPr>
          <a:xfrm>
            <a:off x="228600" y="1066680"/>
            <a:ext cx="8686800" cy="5181840"/>
          </a:xfrm>
          <a:prstGeom prst="rect">
            <a:avLst/>
          </a:prstGeom>
          <a:solidFill>
            <a:srgbClr val="ffffff"/>
          </a:solidFill>
          <a:ln w="0">
            <a:noFill/>
          </a:ln>
        </p:spPr>
        <p:txBody>
          <a:bodyPr lIns="90000" rIns="90000" tIns="46800" bIns="46800" anchor="t">
            <a:normAutofit fontScale="96000"/>
          </a:bodyPr>
          <a:p>
            <a:pPr marL="450720" indent="-4507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mits the flexibility employers have to design compensation and benefit packages tailored for the unique needs of their employee population.</a:t>
            </a:r>
            <a:r>
              <a:rPr b="0" lang="en-US" sz="1800" spc="-1" strike="noStrike">
                <a:solidFill>
                  <a:srgbClr val="000000"/>
                </a:solidFill>
                <a:latin typeface="Tahoma"/>
              </a:rPr>
              <a:t>  Paid leave is one of the many benefits that employers voluntarily provide to recruit and retain employees, as well as promote employee wellness and morale.  HR Professionals strive to offer the right mix of benefits to fit the specific needs of their employees. A recent survey conducted by SHRM indicated that 55% of HR Professionals responded that their organizations offered paid sick leave as part of a paid time off plan (sick, vacation and personal days all in one plan), an 37% offered sick leave in a separate plan. </a:t>
            </a:r>
            <a:endParaRPr b="0" lang="en-US" sz="1800" spc="-1" strike="noStrike">
              <a:solidFill>
                <a:srgbClr val="000000"/>
              </a:solidFill>
              <a:latin typeface="Times New Roman"/>
            </a:endParaRPr>
          </a:p>
          <a:p>
            <a:pPr marL="45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dated paid leave would come at a significant cost to employers, and these costs would have to be made up elsewhere</a:t>
            </a:r>
            <a:r>
              <a:rPr b="0" lang="en-US" sz="1800" spc="-1" strike="noStrike">
                <a:solidFill>
                  <a:srgbClr val="000000"/>
                </a:solidFill>
                <a:latin typeface="Tahoma"/>
              </a:rPr>
              <a:t> . There is a provision written into the legislation that prohibits employers from reducing existing vacation or PTO policies in order to comply with the act once passed. To offset the costs employers may be required to make wage or benefit reductions. While the intentions behind the proposal benefit employees there are many unintended consequences that can result from such mandates that do not benefit employees. </a:t>
            </a:r>
            <a:endParaRPr b="0" lang="en-US" sz="1800" spc="-1" strike="noStrike">
              <a:solidFill>
                <a:srgbClr val="000000"/>
              </a:solidFill>
              <a:latin typeface="Times New Roman"/>
            </a:endParaRPr>
          </a:p>
          <a:p>
            <a:pPr marL="45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Talking Points</a:t>
            </a:r>
            <a:endParaRPr b="0" lang="en-US" sz="2400" spc="-1" strike="noStrike">
              <a:solidFill>
                <a:srgbClr val="000000"/>
              </a:solidFill>
              <a:latin typeface="Times New Roman"/>
            </a:endParaRPr>
          </a:p>
        </p:txBody>
      </p:sp>
      <p:sp>
        <p:nvSpPr>
          <p:cNvPr id="113" name="PlaceHolder 2"/>
          <p:cNvSpPr>
            <a:spLocks noGrp="1"/>
          </p:cNvSpPr>
          <p:nvPr>
            <p:ph/>
          </p:nvPr>
        </p:nvSpPr>
        <p:spPr>
          <a:xfrm>
            <a:off x="228600" y="990360"/>
            <a:ext cx="8686800" cy="5181480"/>
          </a:xfrm>
          <a:prstGeom prst="rect">
            <a:avLst/>
          </a:prstGeom>
          <a:solidFill>
            <a:srgbClr val="ffffff"/>
          </a:solidFill>
          <a:ln w="0">
            <a:noFill/>
          </a:ln>
        </p:spPr>
        <p:txBody>
          <a:bodyPr lIns="90000" rIns="90000" tIns="46800" bIns="46800" anchor="t">
            <a:normAutofit fontScale="95000"/>
          </a:bodyPr>
          <a:p>
            <a:pPr marL="446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46040" indent="-446040">
              <a:lnSpc>
                <a:spcPct val="80000"/>
              </a:lnSpc>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dating paid leave may be detrimental to families and their changing needs. </a:t>
            </a:r>
            <a:r>
              <a:rPr b="0" lang="en-US" sz="1800" spc="-1" strike="noStrike">
                <a:solidFill>
                  <a:srgbClr val="000000"/>
                </a:solidFill>
                <a:latin typeface="Tahoma"/>
              </a:rPr>
              <a:t> As Baby Boomers retire from the workforce and Generation Y enters into the workforce, employees needs will change. Many employers and non-profit organizations are proactively addressing this by providing flexible benefit plans that offer choices to employees as they go through the various stages of life  (i.e. cafeteria benefit plans, flexible work hours, and paid time off programs).  The Ohio Healthy Families Act mandates paid sick leave which will remove the choices that many responsible people take advantage of today or will limit their choices as their work/life balance needs change over time. </a:t>
            </a:r>
            <a:endParaRPr b="0" lang="en-US" sz="1800" spc="-1" strike="noStrike">
              <a:solidFill>
                <a:srgbClr val="000000"/>
              </a:solidFill>
              <a:latin typeface="Times New Roman"/>
            </a:endParaRPr>
          </a:p>
          <a:p>
            <a:pPr marL="446040" indent="-44604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t duplicates and/or conflicts with existing state and federal family leave laws</a:t>
            </a:r>
            <a:r>
              <a:rPr b="0" lang="en-US" sz="1800" spc="-1" strike="noStrike">
                <a:solidFill>
                  <a:srgbClr val="000000"/>
                </a:solidFill>
                <a:latin typeface="Tahoma"/>
              </a:rPr>
              <a:t>, creating more confusion and risk of liability for employers trying to comply with the laws. The FMLA mandates up to 12 weeks of unpaid leave in a 12-month period for certain medical and family reasons.  A recent survey conducted by SHRM indicated 44% of employers surveyed offer job-protected leave beyond what is required by the FMLA. </a:t>
            </a:r>
            <a:endParaRPr b="0" lang="en-US" sz="1800" spc="-1" strike="noStrike">
              <a:solidFill>
                <a:srgbClr val="000000"/>
              </a:solidFill>
              <a:latin typeface="Times New Roman"/>
            </a:endParaRPr>
          </a:p>
          <a:p>
            <a:pPr marL="446040" indent="-44604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roposal could deter organizations from locating their offices in Ohio</a:t>
            </a:r>
            <a:r>
              <a:rPr b="0" lang="en-US" sz="1800" spc="-1" strike="noStrike">
                <a:solidFill>
                  <a:srgbClr val="000000"/>
                </a:solidFill>
                <a:latin typeface="Tahoma"/>
              </a:rPr>
              <a:t>. There are no other states in the US who have adopted such a policy, and only the city of San Francisco currently has a policy like the Ohio Healthy Families Act. Ohio's big cities have endured vast population and job losses and Ohio’s economy is suffering as a result. Businesses moving into Ohio are a key component to strong economic development and mandating employer benefits such as paid leave is certain to be a deterrent for organizations looking to move into the state. </a:t>
            </a: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0:46:26Z</dcterms:created>
  <dc:creator>BURTS1</dc:creator>
  <dc:description/>
  <dc:language>en-US</dc:language>
  <cp:lastModifiedBy>BURTS1</cp:lastModifiedBy>
  <dcterms:modified xsi:type="dcterms:W3CDTF">2008-03-13T20:08:48Z</dcterms:modified>
  <cp:revision>9</cp:revision>
  <dc:subject/>
  <dc:title>2008 Legislative Agenda</dc:title>
</cp:coreProperties>
</file>