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9D5-3B8C-46B0-A29E-64C3D936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A67-3159-4C2F-96FF-01977151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225-37F8-4CE6-AEFA-82D58A5A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956-C5CC-47CD-BB4A-3382CA8D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D1A-E245-49E4-BDB8-F03F6F7C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D42-8471-4DFA-A639-54CD44CE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37C-092F-46B8-ACF2-227AC149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336-99F7-4988-8EB2-A37B775C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F4B-FE7E-43A2-8484-2A2F4B6C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42C-DD85-401D-BB7E-80F0F955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D66-8F55-4A6C-A090-9926F531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A18D-6B25-4B73-9946-71AAEB76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070D-4953-4B18-A759-B1B4942C3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812520"/>
            <a:ext cx="36766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a5b7c"/>
                </a:solidFill>
                <a:latin typeface="Verdana"/>
              </a:rPr>
              <a:t>GCHR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259092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 Advocacy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s You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e are in need of new committee members to help do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ovide HR speakers to local schools K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artner with local organizations to prepare youth for the work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ovide volunteers for community service projects at local schoo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eeting are held once a month in Blue Ash. If you are interested please cont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ing Spitler at bing.spitler@sanswrite.com or 513-771-4042, ext: 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12840"/>
            <a:ext cx="485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5b7c"/>
                </a:solidFill>
                <a:latin typeface="Verdana"/>
              </a:rPr>
              <a:t>Greater Cincinnati Human Resources 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8560" y="203040"/>
            <a:ext cx="80028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7:23:17Z</dcterms:created>
  <dc:creator>ddorman</dc:creator>
  <dc:description/>
  <dc:language>en-US</dc:language>
  <cp:lastModifiedBy>Bing Spitler</cp:lastModifiedBy>
  <dcterms:modified xsi:type="dcterms:W3CDTF">2008-06-16T02:09:02Z</dcterms:modified>
  <cp:revision>13</cp:revision>
  <dc:subject/>
  <dc:title>PowerPoint Presentation</dc:title>
</cp:coreProperties>
</file>