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3B4-ADD3-42CA-9725-B26C597C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B26-F51C-41E5-91E2-0215BC4A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0CB-E96C-4858-A04E-0CC3E660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2EF-A8A8-436C-B945-EF7E1D7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D7C-2FAE-4CDE-8ECF-2B51089F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459-4DE1-43ED-B92B-2F0BCD0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3E3-D662-40E2-9B92-DFC8404A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DE7-D3DE-4379-9BBA-A407A188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941-25B5-457B-AD9D-71ED57D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459-451D-47EC-98B7-13C61D7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BB6-994E-4898-9E66-4E8D2D22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168-B36D-4A50-B0FE-F823D05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A2CC-9273-41F5-9F44-B1E90F10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812520"/>
            <a:ext cx="36766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a5b7c"/>
                </a:solidFill>
                <a:latin typeface="Verdana"/>
              </a:rPr>
              <a:t>GCH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59092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Advocacy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s You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e are in need of new committee members to help do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vide HR speakers to local schools K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rtner with local organizations to prepare youth for the 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rovide volunteers for community service projects at local scho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eeting are held once a month in Blue Ash. If you are interested please cont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ing Spitler at bing.spitler@sanswrite.com or 513-771-4042, ext: 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2840"/>
            <a:ext cx="485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b7c"/>
                </a:solidFill>
                <a:latin typeface="Verdana"/>
              </a:rPr>
              <a:t>Greater Cincinnati Human Resourc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8560" y="203040"/>
            <a:ext cx="800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23:17Z</dcterms:created>
  <dc:creator>ddorman</dc:creator>
  <dc:description/>
  <dc:language>en-US</dc:language>
  <cp:lastModifiedBy>Bing Spitler</cp:lastModifiedBy>
  <dcterms:modified xsi:type="dcterms:W3CDTF">2008-06-16T02:09:02Z</dcterms:modified>
  <cp:revision>13</cp:revision>
  <dc:subject/>
  <dc:title>PowerPoint Presentation</dc:title>
</cp:coreProperties>
</file>