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730-B4EF-47F0-B87F-6CCC459A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A3C-924F-4A1F-83BC-E17D988A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91F-7270-4129-B36B-BA30F896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CC1-3CFE-409A-9BF8-7FD13BCB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AB4-BBED-4483-8DA6-E5A0F773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193-713F-4F91-A2EC-584EF90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C53-7F40-4FCA-BD77-A3D9283B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A5C-B889-4417-ACB4-8534AF53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9FB-18F9-49AA-9ECB-17FE1F4E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5B7-56D2-436F-AFE3-DD006AF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AFF-7288-4CF1-A359-5B86C09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EFF-1E48-4F32-996D-9C0E4FC7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8D5-6FA1-4899-A95B-358780B61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812520"/>
            <a:ext cx="36766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a5b7c"/>
                </a:solidFill>
                <a:latin typeface="Verdana"/>
              </a:rPr>
              <a:t>GCH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259092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 Advocacy Commit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orkforce Readi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do we 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HR speakers to local schools K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ner with local organizations to prepare youth for the 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 volunteers for community service projects at local schoo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w you can hel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unteer to be a spe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in the committee and help plan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you are interested please conta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ng Spitler at  bing.spitler@sanswrite.com or 513-771-4042, ext: 2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12840"/>
            <a:ext cx="485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b7c"/>
                </a:solidFill>
                <a:latin typeface="Verdana"/>
              </a:rPr>
              <a:t>Greater Cincinnati Human Resourc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8560" y="203040"/>
            <a:ext cx="800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23:17Z</dcterms:created>
  <dc:creator>ddorman</dc:creator>
  <dc:description/>
  <dc:language>en-US</dc:language>
  <cp:lastModifiedBy>Bing Spitler</cp:lastModifiedBy>
  <dcterms:modified xsi:type="dcterms:W3CDTF">2008-06-16T02:07:28Z</dcterms:modified>
  <cp:revision>11</cp:revision>
  <dc:subject/>
  <dc:title>PowerPoint Presentation</dc:title>
</cp:coreProperties>
</file>