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F54-52B0-4826-95FF-6FA7DBCF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E2D-647A-4B92-B779-1742B147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1503-4731-4431-84EA-2EC39528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F3D-A8B6-4A13-A4C3-114F9C5E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75FA-CD00-4A01-A378-5455A5CC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D821-7F63-43ED-ACF3-FD22C7ED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8D5-39F4-4F88-88D1-DB054BE5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B44-2A2C-4A39-8319-CADE55C7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3C26-CC51-4B6F-B839-E59ADDAE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235-91F6-49E8-9590-0A67694C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E1F-FBCE-45BA-A7EA-ACE3D635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54A7-23C9-4428-9B6A-9AFF2B2B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D77D-3B10-40F5-8F89-42B4B1564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812520"/>
            <a:ext cx="36766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a5b7c"/>
                </a:solidFill>
                <a:latin typeface="Verdana"/>
              </a:rPr>
              <a:t>GCHR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259092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 Advocacy Committ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Workforce Readin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at do we 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 HR speakers to local schools K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ner with local organizations to prepare youth for the workfo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 volunteers for community service projects at local schoo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w you can hel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olunteer to be a spe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oin the committee and help plan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you are interested please conta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ng Spitler at  bing.spitler@sanswrite.com or 513-771-4042, ext: 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12840"/>
            <a:ext cx="485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5b7c"/>
                </a:solidFill>
                <a:latin typeface="Verdana"/>
              </a:rPr>
              <a:t>Greater Cincinnati Human Resources Assoc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8560" y="203040"/>
            <a:ext cx="80028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7:23:17Z</dcterms:created>
  <dc:creator>ddorman</dc:creator>
  <dc:description/>
  <dc:language>en-US</dc:language>
  <cp:lastModifiedBy>Bing Spitler</cp:lastModifiedBy>
  <dcterms:modified xsi:type="dcterms:W3CDTF">2008-06-16T02:07:28Z</dcterms:modified>
  <cp:revision>11</cp:revision>
  <dc:subject/>
  <dc:title>PowerPoint Presentation</dc:title>
</cp:coreProperties>
</file>