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9FFA4-8110-4F05-B5A6-8912690E0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 good listener – stop talking and list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like a tennis match – each person having a chance to give and rece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ue art of oral communication is talking and liste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the other person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what you want to s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hink and formulate before you speak.  You will be effective in coming across with your poin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before you talk – be clear and conci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ramble and beat around the point that you are trying to make.  They will stop listen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 the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asier for the listener to remember what you sai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l part of choosing the business that is right for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iness does not meet your personal goals it is probably not going to be a good fi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 your full atten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look out the window</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n’t look at what else is going on in the room</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your mind is focus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easy to let your mind wander if you THINK you know what the person is thinking or is going to say next, but you might be wro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feel your mind wandering, change the position of your body and try to concentrate on the speakers words.</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the speaker finish before you begin to tal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one appreciates having the chance to say what they need to without being interrup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interrupt, it looks like you aren’t listening, even if you really ar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yourself finish listening before you begin to spea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t really listen if you are thinking about what you want to say nex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ive feedback</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and then, nod to show that you understan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ppropriate points you may want to smile, frown, laugh</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B9543-AE1B-45EA-9F04-803E44E2A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208D-3CF6-422F-9A9D-96A46BA8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EF72-B9C7-483F-B302-EA3B8F8C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05479-3E50-4BF7-9C1C-92D057F90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39943-03E6-452C-9FF7-07133B2DD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887FB-3A61-4611-B27C-5EF0F031D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F17E8-04EE-40D5-BE3E-F6AD9AFB2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F5474-8959-4C98-BF7A-20D44C788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4D5ED-DF3D-4021-8EAF-3553AAF0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15963-7C81-4BEC-B9E5-6795266E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0439E-2D16-4D71-A240-39A535716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3205-B952-4A24-B76D-A59C209A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E55F-65BF-4FA6-9DEF-8EDABDE32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8F83-30F7-4627-B303-3789ADDCB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00F0-CC26-4659-80F4-386836E40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F2B51-15D2-4B83-89BF-6531AB633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8F70AB-DBCD-4B36-82FE-EE00A6AD7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5FB8B-8B76-4109-B265-35B3C484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4C07-1782-4EEB-84DA-13E0D347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C0AA8-2E35-473D-A91F-36519F0A0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6AAF7-0B05-4B03-9CE4-0DD8437C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1348-7FD3-4AC2-8DA9-C5E9511AB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0A9F0-A078-408F-B269-D03F2966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F0E5B-264F-4EFA-9319-6E4B94454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0ADD-98E3-47C3-9F38-0829476FF7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C13D-656B-41BE-9E95-E473F05B79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d8e1e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Workplace Basics</a:t>
            </a:r>
            <a:r>
              <a:rPr b="0" lang="en-US" sz="4400" spc="-1" strike="noStrike">
                <a:solidFill>
                  <a:srgbClr val="e8edf2"/>
                </a:solidFill>
                <a:latin typeface="Tahoma"/>
              </a:rPr>
              <a:t>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lls employers w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7" name="PlaceHolder 2"/>
          <p:cNvSpPr>
            <a:spLocks noGrp="1"/>
          </p:cNvSpPr>
          <p:nvPr>
            <p:ph/>
          </p:nvPr>
        </p:nvSpPr>
        <p:spPr>
          <a:xfrm>
            <a:off x="228600" y="1828800"/>
            <a:ext cx="86868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be a good oral communicator…</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a good listener – stop talking and liste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 what you want to say – believe in your messag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before you talk – be clear and concis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to the point quickly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09" name="PlaceHolder 2"/>
          <p:cNvSpPr>
            <a:spLocks noGrp="1"/>
          </p:cNvSpPr>
          <p:nvPr>
            <p:ph/>
          </p:nvPr>
        </p:nvSpPr>
        <p:spPr>
          <a:xfrm>
            <a:off x="228600" y="210672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ing short- or long-term objectives, usually incorporating deadlines and quantifiable measures.  It is something you aim f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11" name="PlaceHolder 2"/>
          <p:cNvSpPr>
            <a:spLocks noGrp="1"/>
          </p:cNvSpPr>
          <p:nvPr>
            <p:ph/>
          </p:nvPr>
        </p:nvSpPr>
        <p:spPr>
          <a:xfrm>
            <a:off x="304920" y="1773360"/>
            <a:ext cx="86104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goal setting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l part of choosing the business that is right for yo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ces you to think through what you want from career path</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Goal Setting</a:t>
            </a:r>
            <a:endParaRPr b="0" lang="en-US" sz="4400" spc="-1" strike="noStrike">
              <a:solidFill>
                <a:srgbClr val="e8edf2"/>
              </a:solidFill>
              <a:latin typeface="Tahoma"/>
            </a:endParaRPr>
          </a:p>
        </p:txBody>
      </p:sp>
      <p:sp>
        <p:nvSpPr>
          <p:cNvPr id="11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set go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interpersonal skills are importa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Interpersonal Skills</a:t>
            </a:r>
            <a:endParaRPr b="0" lang="en-US" sz="4400" spc="-1" strike="noStrike">
              <a:solidFill>
                <a:srgbClr val="e8edf2"/>
              </a:solidFill>
              <a:latin typeface="Tahoma"/>
            </a:endParaRPr>
          </a:p>
        </p:txBody>
      </p:sp>
      <p:sp>
        <p:nvSpPr>
          <p:cNvPr id="11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interpersonal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a:t>
            </a:r>
            <a:endParaRPr b="0" lang="en-US" sz="4400" spc="-1" strike="noStrike">
              <a:solidFill>
                <a:srgbClr val="e8edf2"/>
              </a:solidFill>
              <a:latin typeface="Tahoma"/>
            </a:endParaRPr>
          </a:p>
        </p:txBody>
      </p:sp>
      <p:sp>
        <p:nvSpPr>
          <p:cNvPr id="12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 </a:t>
            </a:r>
            <a:endParaRPr b="0" lang="en-US" sz="4400" spc="-1" strike="noStrike">
              <a:solidFill>
                <a:srgbClr val="e8edf2"/>
              </a:solidFill>
              <a:latin typeface="Tahoma"/>
            </a:endParaRPr>
          </a:p>
        </p:txBody>
      </p:sp>
      <p:sp>
        <p:nvSpPr>
          <p:cNvPr id="12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eamwork skills are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Teamwork</a:t>
            </a:r>
            <a:endParaRPr b="0" lang="en-US" sz="4400" spc="-1" strike="noStrike">
              <a:solidFill>
                <a:srgbClr val="e8edf2"/>
              </a:solidFill>
              <a:latin typeface="Tahoma"/>
            </a:endParaRPr>
          </a:p>
        </p:txBody>
      </p:sp>
      <p:sp>
        <p:nvSpPr>
          <p:cNvPr id="12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teamwork skil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8153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hat we know employers expect…</a:t>
            </a:r>
            <a:endParaRPr b="0" lang="en-US" sz="4000" spc="-1" strike="noStrike">
              <a:solidFill>
                <a:srgbClr val="e8edf2"/>
              </a:solidFill>
              <a:latin typeface="Tahoma"/>
            </a:endParaRPr>
          </a:p>
        </p:txBody>
      </p:sp>
      <p:sp>
        <p:nvSpPr>
          <p:cNvPr id="92"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academic skills:</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reading and comprehension</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math and problem solving</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computer skill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c writing skil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2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2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self-esteem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Self-Esteem</a:t>
            </a:r>
            <a:endParaRPr b="0" lang="en-US" sz="4400" spc="-1" strike="noStrike">
              <a:solidFill>
                <a:srgbClr val="e8edf2"/>
              </a:solidFill>
              <a:latin typeface="Tahoma"/>
            </a:endParaRPr>
          </a:p>
        </p:txBody>
      </p:sp>
      <p:sp>
        <p:nvSpPr>
          <p:cNvPr id="13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self-esteem skill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5"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problem solving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Problem Solving</a:t>
            </a:r>
            <a:endParaRPr b="0" lang="en-US" sz="4400" spc="-1" strike="noStrike">
              <a:solidFill>
                <a:srgbClr val="e8edf2"/>
              </a:solidFill>
              <a:latin typeface="Tahoma"/>
            </a:endParaRPr>
          </a:p>
        </p:txBody>
      </p:sp>
      <p:sp>
        <p:nvSpPr>
          <p:cNvPr id="137"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problem solving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39"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41"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creative thinking is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reative Thinking</a:t>
            </a:r>
            <a:endParaRPr b="0" lang="en-US" sz="4400" spc="-1" strike="noStrike">
              <a:solidFill>
                <a:srgbClr val="e8edf2"/>
              </a:solidFill>
              <a:latin typeface="Tahoma"/>
            </a:endParaRPr>
          </a:p>
        </p:txBody>
      </p:sp>
      <p:sp>
        <p:nvSpPr>
          <p:cNvPr id="143"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achieve creative thinking skil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33000"/>
            <a:ext cx="81532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8edf2"/>
                </a:solidFill>
                <a:latin typeface="Tahoma"/>
              </a:rPr>
              <a:t>What we know employers expect…</a:t>
            </a:r>
            <a:endParaRPr b="0" lang="en-US" sz="4000" spc="-1" strike="noStrike">
              <a:solidFill>
                <a:srgbClr val="e8edf2"/>
              </a:solidFill>
              <a:latin typeface="Tahoma"/>
            </a:endParaRPr>
          </a:p>
        </p:txBody>
      </p:sp>
      <p:sp>
        <p:nvSpPr>
          <p:cNvPr id="94" name="PlaceHolder 2"/>
          <p:cNvSpPr>
            <a:spLocks noGrp="1"/>
          </p:cNvSpPr>
          <p:nvPr>
            <p:ph/>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ance and punctua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lity to learn quickl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ceptional customer service skill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do/will do fit fac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62120" y="2514240"/>
            <a:ext cx="7696080" cy="4010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ever, employers look for more than just the basic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want to build your foundation to be successfu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97" name="PlaceHolder 2"/>
          <p:cNvSpPr>
            <a:spLocks noGrp="1"/>
          </p:cNvSpPr>
          <p:nvPr>
            <p:ph/>
          </p:nvPr>
        </p:nvSpPr>
        <p:spPr>
          <a:xfrm>
            <a:off x="304560" y="2106720"/>
            <a:ext cx="830556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ening is following and understanding the sound – it is hearing with a purpose.  Listening leads to the understanding of facts and ideas.  Listening takes attention</a:t>
            </a:r>
            <a:r>
              <a:rPr b="0" lang="en-US" sz="2400" spc="-1" strike="noStrike">
                <a:solidFill>
                  <a:srgbClr val="ffffff"/>
                </a:solidFill>
                <a:latin typeface="Tahoma"/>
              </a:rPr>
              <a:t>, </a:t>
            </a:r>
            <a:r>
              <a:rPr b="0" lang="en-US" sz="2800" spc="-1" strike="noStrike">
                <a:solidFill>
                  <a:srgbClr val="ffffff"/>
                </a:solidFill>
                <a:latin typeface="Tahoma"/>
              </a:rPr>
              <a:t>or sticking to the task at hand in spite of distraction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99" name="PlaceHolder 2"/>
          <p:cNvSpPr>
            <a:spLocks noGrp="1"/>
          </p:cNvSpPr>
          <p:nvPr>
            <p:ph/>
          </p:nvPr>
        </p:nvSpPr>
        <p:spPr>
          <a:xfrm>
            <a:off x="228240" y="1905120"/>
            <a:ext cx="89154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listening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listening we let the other person know they are importan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s you a more productive worker</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tter understand assignments and what is expected of yo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s rapport with friends, co-workers, bosses and client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Listening</a:t>
            </a:r>
            <a:endParaRPr b="0" lang="en-US" sz="4400" spc="-1" strike="noStrike">
              <a:solidFill>
                <a:srgbClr val="e8edf2"/>
              </a:solidFill>
              <a:latin typeface="Tahoma"/>
            </a:endParaRPr>
          </a:p>
        </p:txBody>
      </p:sp>
      <p:sp>
        <p:nvSpPr>
          <p:cNvPr id="101" name="PlaceHolder 2"/>
          <p:cNvSpPr>
            <a:spLocks noGrp="1"/>
          </p:cNvSpPr>
          <p:nvPr>
            <p:ph/>
          </p:nvPr>
        </p:nvSpPr>
        <p:spPr>
          <a:xfrm>
            <a:off x="228600" y="1828800"/>
            <a:ext cx="86868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to be a good listener…</a:t>
            </a:r>
            <a:endParaRPr b="0" lang="en-US" sz="3200" spc="-1" strike="noStrike">
              <a:solidFill>
                <a:srgbClr val="ffffff"/>
              </a:solidFill>
              <a:latin typeface="Tahom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your full attention to the person who is speak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 sure your mind is focuse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the speaker finish before you begin to tal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 yourself finish listening before you begin to speak</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 feedback (non-verbally) that you are listen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3" name="PlaceHolder 2"/>
          <p:cNvSpPr>
            <a:spLocks noGrp="1"/>
          </p:cNvSpPr>
          <p:nvPr>
            <p:ph/>
          </p:nvPr>
        </p:nvSpPr>
        <p:spPr>
          <a:xfrm>
            <a:off x="304920" y="2106720"/>
            <a:ext cx="853416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itio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spoken interaction between two or more people.  It requires that you understand what you say and how you say it.   It is the ability to communicate effectively through speaking.  It is different from conversational communication as it is far more complex. </a:t>
            </a:r>
            <a:endParaRPr b="0" lang="en-US" sz="2800" spc="-1" strike="noStrike">
              <a:solidFill>
                <a:srgbClr val="ffffff"/>
              </a:solidFill>
              <a:latin typeface="Tahoma"/>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Oral Communication</a:t>
            </a:r>
            <a:endParaRPr b="0" lang="en-US" sz="4400" spc="-1" strike="noStrike">
              <a:solidFill>
                <a:srgbClr val="e8edf2"/>
              </a:solidFill>
              <a:latin typeface="Tahoma"/>
            </a:endParaRPr>
          </a:p>
        </p:txBody>
      </p:sp>
      <p:sp>
        <p:nvSpPr>
          <p:cNvPr id="105" name="PlaceHolder 2"/>
          <p:cNvSpPr>
            <a:spLocks noGrp="1"/>
          </p:cNvSpPr>
          <p:nvPr>
            <p:ph/>
          </p:nvPr>
        </p:nvSpPr>
        <p:spPr>
          <a:xfrm>
            <a:off x="228240" y="1905120"/>
            <a:ext cx="891540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oral communication is important</a:t>
            </a:r>
            <a:endParaRPr b="0" lang="en-US" sz="32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ables a person to maintain control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ables you to clearly understand expectation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 the respect of the person you are talking to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kes others feel special and importan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17:34:52Z</dcterms:created>
  <dc:creator>christ</dc:creator>
  <dc:description/>
  <cp:keywords/>
  <dc:language>en-US</dc:language>
  <cp:lastModifiedBy>william mcbain</cp:lastModifiedBy>
  <dcterms:modified xsi:type="dcterms:W3CDTF">2007-03-21T15:14:03Z</dcterms:modified>
  <cp:revision>13</cp:revision>
  <dc:subject/>
  <dc:title>Workplace Basic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4643747</vt:r8>
  </property>
  <property fmtid="{D5CDD505-2E9C-101B-9397-08002B2CF9AE}" pid="3" name="_AuthorEmail">
    <vt:lpwstr>mahina@arrivestaffing.com</vt:lpwstr>
  </property>
  <property fmtid="{D5CDD505-2E9C-101B-9397-08002B2CF9AE}" pid="4" name="_AuthorEmailDisplayName">
    <vt:lpwstr>Mahina Williams</vt:lpwstr>
  </property>
  <property fmtid="{D5CDD505-2E9C-101B-9397-08002B2CF9AE}" pid="5" name="_EmailSubject">
    <vt:lpwstr>Youth Expo PP Presentation</vt:lpwstr>
  </property>
  <property fmtid="{D5CDD505-2E9C-101B-9397-08002B2CF9AE}" pid="6" name="_ReviewingToolsShownOnce">
    <vt:lpwstr/>
  </property>
  <property fmtid="{D5CDD505-2E9C-101B-9397-08002B2CF9AE}" pid="7" name="_TemplateID">
    <vt:lpwstr>TC011407991033</vt:lpwstr>
  </property>
</Properties>
</file>